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2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</p:sldMasterIdLst>
  <p:notesMasterIdLst>
    <p:notesMasterId r:id="rId158"/>
  </p:notesMasterIdLst>
  <p:sldIdLst>
    <p:sldId id="256" r:id="rId159"/>
    <p:sldId id="257" r:id="rId160"/>
    <p:sldId id="258" r:id="rId161"/>
    <p:sldId id="259" r:id="rId162"/>
    <p:sldId id="260" r:id="rId163"/>
    <p:sldId id="261" r:id="rId164"/>
    <p:sldId id="262" r:id="rId165"/>
    <p:sldId id="263" r:id="rId166"/>
    <p:sldId id="264" r:id="rId167"/>
    <p:sldId id="265" r:id="rId168"/>
    <p:sldId id="266" r:id="rId169"/>
    <p:sldId id="267" r:id="rId170"/>
    <p:sldId id="268" r:id="rId17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notesMaster" Target="notesMasters/notesMaster1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slide" Target="slides/slide7.xml"/><Relationship Id="rId166" Type="http://schemas.openxmlformats.org/officeDocument/2006/relationships/slide" Target="slides/slide8.xml"/><Relationship Id="rId167" Type="http://schemas.openxmlformats.org/officeDocument/2006/relationships/slide" Target="slides/slide9.xml"/><Relationship Id="rId168" Type="http://schemas.openxmlformats.org/officeDocument/2006/relationships/slide" Target="slides/slide10.xml"/><Relationship Id="rId169" Type="http://schemas.openxmlformats.org/officeDocument/2006/relationships/slide" Target="slides/slide11.xml"/><Relationship Id="rId170" Type="http://schemas.openxmlformats.org/officeDocument/2006/relationships/slide" Target="slides/slide12.xml"/><Relationship Id="rId171" Type="http://schemas.openxmlformats.org/officeDocument/2006/relationships/slide" Target="slides/slide13.xml"/><Relationship Id="rId1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5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6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7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dt" idx="169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 type="sldNum" idx="170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88278C-FE24-495E-94FA-77C12E5277C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05B27D-2570-4469-B07E-B70AC643255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8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DE939F-5A6C-4F18-ABA7-67A1ACC5795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C5112B-EAEF-420B-9DA6-DED934425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92DD79-31E4-45C0-9973-E13AC6DB8D5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05205D-A019-40F6-A978-E1FEFBAD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1317AE-3B62-485B-BDF9-B886E688D39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0AC1EA-F279-46C4-AEB1-C6F0ABA4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5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C70AC5-59E9-403C-AF1E-A698F974307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55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592BAA-BECC-426F-A588-2218B56562D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7CA9E-A554-447D-B652-9CCBCCCBD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F2C0CD-A968-4A9A-94E3-43E9A97B79A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716CA5-F1AA-4D33-A034-4C33C406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42540B-D579-4A1C-A5FD-B72E582CB19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F0575A-EEC8-4760-B9C1-B5DABF634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1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442BB6-85FB-4387-8400-04480A7942C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2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EE3A4D-BFDA-49B5-AF76-1861DDB26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2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5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95AE55-6AFE-4AA2-B754-EEC3A1F177F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6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465607-D964-4A2B-902C-2B5B16870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2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496C61-0B04-481C-94E8-EA1F20A51CB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0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A05E5D-ABE7-4312-9CBB-F73C60693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32191A-739D-42F4-8F27-0A735202D63E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4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20217F-E6A8-45C2-A4F2-D44F3024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7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13CF5F-D9E3-4FBF-93E1-CE83108B471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8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941096-7C9D-4AE8-B6BA-76EF32A02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4746-B71E-4EC1-834E-2B48A0E9C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E551-C350-467C-884D-630CEFB8AE1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73591-96DB-41D8-810E-12F4B5D71145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C6835A5-07BD-485B-8542-E76D9CCABD3B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584346C-E817-4BB9-B7D5-32D3DD094E65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C9EB54B-B624-4213-B5CA-1F9C3E92CD70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152A06-C11C-4720-A016-2F889FCD1638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4F256DD-5875-4577-B6E6-BB20BA0F8025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2F62A0A-70DB-4350-82EB-16EF45A1A28E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9D09246-D24B-4AB3-8003-74DADF6692AE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FA9FBBE-B53C-44D3-941B-E63BA2742355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0CA3723-773A-463A-9ACB-36007717F976}" type="slidenum">
              <a:t>&lt;#&gt;</a:t>
            </a:fld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DEED918-D6D9-46CA-BCB0-14F0A891AA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46A6-04B1-4DFF-80EA-EB37E7B68708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68913A1-C1B1-42A2-973E-AE2BEFBF1FBB}" type="slidenum">
              <a:t>&lt;#&gt;</a:t>
            </a:fld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ACA75D-D4FC-4A3C-918F-CDE8585834A3}" type="slidenum">
              <a:t>&lt;#&gt;</a:t>
            </a:fld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D19585-34A8-4751-8130-B8A8A883F94D}" type="slidenum">
              <a:t>&lt;#&gt;</a:t>
            </a:fld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A11C4F7-7B7E-49CC-B50A-0DBC4B0E1CAB}" type="slidenum">
              <a:t>&lt;#&gt;</a:t>
            </a:fld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0A0774B-AE30-451D-B672-5C2F0E49EA7B}" type="slidenum">
              <a:t>&lt;#&gt;</a:t>
            </a:fld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D39AEE9-C571-42D6-8782-4E11C46A983D}" type="slidenum">
              <a:t>&lt;#&gt;</a:t>
            </a:fld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D7594C7-C812-44D5-9CF1-7C444407291B}" type="slidenum">
              <a:t>&lt;#&gt;</a:t>
            </a:fld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D1E290-AAA1-4192-899A-C1A17C4254B1}" type="slidenum">
              <a:t>&lt;#&gt;</a:t>
            </a:fld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1A8C741-F6E0-4D5D-805A-88D92297CCD7}" type="slidenum">
              <a:t>&lt;#&gt;</a:t>
            </a:fld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A909A55-CF5F-4713-AFB4-48C2AACDEA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0F63-1039-46C3-ACC9-641093E5B3AB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6D551B4-4B65-4781-8167-27C12EE0FF87}" type="slidenum">
              <a:t>&lt;#&gt;</a:t>
            </a:fld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CC036A-37C7-47B1-91FD-969D84E5DB65}" type="slidenum">
              <a:t>&lt;#&gt;</a:t>
            </a:fld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E292FD-6041-431D-B1DD-B9B37E0C4EF7}" type="slidenum">
              <a:t>&lt;#&gt;</a:t>
            </a:fld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26E5D2-CE27-4F47-BB0E-39FCD75E8936}" type="slidenum">
              <a:t>&lt;#&gt;</a:t>
            </a:fld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AA1B9E-B8AF-4BC5-99FA-725CCD02A4E1}" type="slidenum">
              <a:t>&lt;#&gt;</a:t>
            </a:fld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0ED0E7-34C5-42FB-9C7F-175CF960209C}" type="slidenum">
              <a:t>&lt;#&gt;</a:t>
            </a:fld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7F8BE4-E1BB-45D2-A696-DE21805D1649}" type="slidenum">
              <a:t>&lt;#&gt;</a:t>
            </a:fld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60BF99-36F6-4D1B-B82C-3E3BA6D5D772}" type="slidenum">
              <a:t>&lt;#&gt;</a:t>
            </a:fld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1318B9-60A9-482A-8E7E-3460AEE89A9B}" type="slidenum">
              <a:t>&lt;#&gt;</a:t>
            </a:fld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D2FDF8-95E8-468E-B968-D49795FDC71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A83C-7942-4C66-80D4-E953DD41E9EA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919B14-2CEB-43BF-A4ED-2DF60B33F15D}" type="slidenum">
              <a:t>&lt;#&gt;</a:t>
            </a:fld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4408C-3B72-43EF-806E-153B89370B02}" type="slidenum">
              <a:t>&lt;#&gt;</a:t>
            </a:fld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400132-35B8-49D1-A8DE-67F501850BA6}" type="slidenum">
              <a:t>&lt;#&gt;</a:t>
            </a:fld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AF9AAC4-06C0-455C-9765-C36BE4674DAF}" type="slidenum">
              <a:t>&lt;#&gt;</a:t>
            </a:fld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A715DD7-C240-4E91-99A3-FF901EB35B83}" type="slidenum">
              <a:t>&lt;#&gt;</a:t>
            </a:fld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7CE22B2-34E9-464A-865D-CD0E95D39FAD}" type="slidenum">
              <a:t>&lt;#&gt;</a:t>
            </a:fld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8CCD207-2F3E-421C-8E7A-FB7380871618}" type="slidenum">
              <a:t>&lt;#&gt;</a:t>
            </a:fld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03CE110-465D-46AB-8321-A8C9872DC658}" type="slidenum">
              <a:t>&lt;#&gt;</a:t>
            </a:fld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E31B3AB-2186-4B3A-AA9D-C371EB85D5E8}" type="slidenum">
              <a:t>&lt;#&gt;</a:t>
            </a:fld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CE9EE39-58D9-40C6-AC9C-A1174BFD7EB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D832-87DD-4FEF-941B-DF2105BB6E59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D12715F-F8C9-4BA7-BDFE-2265916BACB7}" type="slidenum">
              <a:t>&lt;#&gt;</a:t>
            </a:fld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5C1B1D3-823E-4DC3-B9BF-EEAF5B45FAF6}" type="slidenum">
              <a:t>&lt;#&gt;</a:t>
            </a:fld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476F68A-72A7-4B9E-A91E-05BA48E099D6}" type="slidenum">
              <a:t>&lt;#&gt;</a:t>
            </a:fld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189D22B-9E31-4316-B1AA-B38C2D308A0A}" type="slidenum">
              <a:t>&lt;#&gt;</a:t>
            </a:fld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A098881-838A-410D-8BE2-5530E07A6E9E}" type="slidenum">
              <a:t>&lt;#&gt;</a:t>
            </a:fld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0C8097E-75A2-4072-9C70-4E1E0F989C02}" type="slidenum">
              <a:t>&lt;#&gt;</a:t>
            </a:fld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F03E62E-4759-432A-BE89-F18375EF28B8}" type="slidenum">
              <a:t>&lt;#&gt;</a:t>
            </a:fld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7F570E9-147D-46DE-ADCB-662113B150D7}" type="slidenum">
              <a:t>&lt;#&gt;</a:t>
            </a:fld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D9C4241-8124-474A-ADC6-3911A49AD149}" type="slidenum">
              <a:t>&lt;#&gt;</a:t>
            </a:fld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66793E1-F009-484E-897F-6A01648B7F0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3BE1-5825-4E79-A69C-960018E6693F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17D6D23-C5C7-4772-9879-BC01AE9C3D00}" type="slidenum">
              <a:t>&lt;#&gt;</a:t>
            </a:fld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CA9AF43-C7F5-4528-BD99-B12D86524017}" type="slidenum">
              <a:t>&lt;#&gt;</a:t>
            </a:fld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0BD07EA-2E62-4D4E-8715-E77B9376CE0E}" type="slidenum">
              <a:t>&lt;#&gt;</a:t>
            </a:fld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E1AB5A4-CDC6-4C81-873E-957040A2D238}" type="slidenum">
              <a:t>&lt;#&gt;</a:t>
            </a:fld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BC0CF9F-E357-4BA2-BE1B-AE237560F72E}" type="slidenum">
              <a:t>&lt;#&gt;</a:t>
            </a:fld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6424432-C3C5-4A24-A48A-8D74E92F82D4}" type="slidenum">
              <a:t>&lt;#&gt;</a:t>
            </a:fld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94E5EAE-EE75-40FA-AE41-BCF570317F88}" type="slidenum">
              <a:t>&lt;#&gt;</a:t>
            </a:fld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6BEF23-E7AF-4AB1-B63A-29AFF61D95FF}" type="slidenum">
              <a:t>&lt;#&gt;</a:t>
            </a:fld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944646-DE93-4CE8-B6DE-B19FEC9C6912}" type="slidenum">
              <a:t>&lt;#&gt;</a:t>
            </a:fld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965907-4D28-42DB-81EF-268714508C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6084-3765-4A30-B86A-0B14E768A7AF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92FAE2-26E3-4192-88CA-1621A210E852}" type="slidenum">
              <a:t>&lt;#&gt;</a:t>
            </a:fld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0042DB-B980-474A-BEA2-2876A90CE3C2}" type="slidenum">
              <a:t>&lt;#&gt;</a:t>
            </a:fld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168FE4-C696-4EE3-A61A-75961E4DF4D3}" type="slidenum">
              <a:t>&lt;#&gt;</a:t>
            </a:fld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36D9A4-DACD-4491-BA61-82F0B9277E2C}" type="slidenum">
              <a:t>&lt;#&gt;</a:t>
            </a:fld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61FAF4-3470-4729-8EF7-6F33CAB91699}" type="slidenum">
              <a:t>&lt;#&gt;</a:t>
            </a:fld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0B76CC-511C-4288-928C-A909D3160A16}" type="slidenum">
              <a:t>&lt;#&gt;</a:t>
            </a:fld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A24B01-A045-4973-BEBB-3D63B5276E3E}" type="slidenum">
              <a:t>&lt;#&gt;</a:t>
            </a:fld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93B94C-F197-47DB-A74E-13C556F8E3A3}" type="slidenum">
              <a:t>&lt;#&gt;</a:t>
            </a:fld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D286B8-1254-40A4-9366-62F73F3A6CC9}" type="slidenum">
              <a:t>&lt;#&gt;</a:t>
            </a:fld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1013C66-37AB-4578-AD45-B8D962A8C1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1284-CF1A-423B-A57D-0C4152B5CCCA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2C3ADB7-3D4C-45F3-ABF1-2AED5DACF4E8}" type="slidenum">
              <a:t>&lt;#&gt;</a:t>
            </a:fld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FC34923-2EB0-4CE7-9C45-5FF9DA0D1754}" type="slidenum">
              <a:t>&lt;#&gt;</a:t>
            </a:fld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9239E4C-83BD-4A7A-8FD3-322D87FF2931}" type="slidenum">
              <a:t>&lt;#&gt;</a:t>
            </a:fld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DC92710-C26D-43FD-8A50-B2151D8F0A14}" type="slidenum">
              <a:t>&lt;#&gt;</a:t>
            </a:fld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D24E7E0-3823-4343-B02D-D662E535EFDF}" type="slidenum">
              <a:t>&lt;#&gt;</a:t>
            </a:fld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D2CE0C6-A169-450D-A4F4-7117D3A83585}" type="slidenum">
              <a:t>&lt;#&gt;</a:t>
            </a:fld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ED934A9-999B-4D6A-AB42-FA08F95E0398}" type="slidenum">
              <a:t>&lt;#&gt;</a:t>
            </a:fld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CF77B1E-0E2C-49C2-A12A-80A11F879E7C}" type="slidenum">
              <a:t>&lt;#&gt;</a:t>
            </a:fld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0FAD37B-EA7C-4330-A8EF-14B720A88DE2}" type="slidenum">
              <a:t>&lt;#&gt;</a:t>
            </a:fld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28E6797-14BE-45F0-8B68-E41FE40F98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06CB-CFA3-42FA-892A-2B80B44C3FDA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F1E9264-956E-4F1A-8CC2-3E3F606FBF82}" type="slidenum">
              <a:t>&lt;#&gt;</a:t>
            </a:fld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B375E33-BA11-4B70-BB16-F8F7361C36D8}" type="slidenum">
              <a:t>&lt;#&gt;</a:t>
            </a:fld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BC9FD44-DEE9-4D60-BB60-7DA6011F9E32}" type="slidenum">
              <a:t>&lt;#&gt;</a:t>
            </a:fld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140B18F-AE0C-4738-B852-6A8769D316A6}" type="slidenum">
              <a:t>&lt;#&gt;</a:t>
            </a:fld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E923F31-6673-4A83-BAC3-C2A8C7FC4B2C}" type="slidenum">
              <a:t>&lt;#&gt;</a:t>
            </a:fld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2BF5BBA-2064-4B0B-B172-10AFEF25049B}" type="slidenum">
              <a:t>&lt;#&gt;</a:t>
            </a:fld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8CD8C76-AD4C-4F34-B606-5CCD91E639DA}" type="slidenum">
              <a:t>&lt;#&gt;</a:t>
            </a:fld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14B6A3F-2601-480C-9333-0D4F1F4B2B87}" type="slidenum">
              <a:t>&lt;#&gt;</a:t>
            </a:fld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62B8E9C-1B8A-4F6B-8B06-C209C13A3584}" type="slidenum">
              <a:t>&lt;#&gt;</a:t>
            </a:fld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4BC5545-AB9F-4E4F-B26C-02352D4E5D1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AA3BC-5C60-4EF1-BF8A-3598FFA8F381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F8CBEDE-67B3-4EEA-8B2B-3467CD623CDF}" type="slidenum">
              <a:t>&lt;#&gt;</a:t>
            </a:fld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910E3E6-C316-4AC1-8333-9AC259568F38}" type="slidenum">
              <a:t>&lt;#&gt;</a:t>
            </a:fld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7C84FCC-AD7D-44B1-BFCF-05450EC3E809}" type="slidenum">
              <a:t>&lt;#&gt;</a:t>
            </a:fld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F0D4AB-8EF7-4062-AB16-F683B468E093}" type="slidenum">
              <a:t>&lt;#&gt;</a:t>
            </a:fld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7F3712-3BB9-40B8-9142-9BEC7717CB87}" type="slidenum">
              <a:t>&lt;#&gt;</a:t>
            </a:fld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1E06F4-9540-4E53-A38A-E0541C637DB3}" type="slidenum">
              <a:t>&lt;#&gt;</a:t>
            </a:fld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2B0FB9-ABCF-43B0-8408-055F1EE83BE7}" type="slidenum">
              <a:t>&lt;#&gt;</a:t>
            </a:fld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95B876-F21A-4BC8-BA68-F5983697B0EE}" type="slidenum">
              <a:t>&lt;#&gt;</a:t>
            </a:fld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D6054A-6B83-484F-96D0-6AB639760512}" type="slidenum">
              <a:t>&lt;#&gt;</a:t>
            </a:fld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22EBCC-6F25-442E-8A63-151DB984E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EF07-057D-4070-9741-4AAA5072288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5E47F-A879-40D1-84AE-80A189626207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B98DC7-F4D2-4989-B782-8B94A2A1BD6A}" type="slidenum">
              <a:t>&lt;#&gt;</a:t>
            </a:fld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D08D13-DA3A-4286-8432-168168436E84}" type="slidenum">
              <a:t>&lt;#&gt;</a:t>
            </a:fld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EFCFBF-92A0-4170-9CE2-ECB79FB8AF42}" type="slidenum">
              <a:t>&lt;#&gt;</a:t>
            </a:fld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597742-7B8F-453F-8079-B8FF4576671B}" type="slidenum">
              <a:t>&lt;#&gt;</a:t>
            </a:fld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AACBFD-EF02-4C95-A106-8478F6AC6D3A}" type="slidenum">
              <a:t>&lt;#&gt;</a:t>
            </a:fld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8FBA264-C901-4E23-B151-8E8569AB6CF9}" type="slidenum">
              <a:t>&lt;#&gt;</a:t>
            </a:fld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C078801-42D9-4326-8A3B-28FC5F34F5D9}" type="slidenum">
              <a:t>&lt;#&gt;</a:t>
            </a:fld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149007A-DAD1-4807-88FF-4DC2526399B8}" type="slidenum">
              <a:t>&lt;#&gt;</a:t>
            </a:fld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1579F15-DF34-4AD5-90C4-F48A538FAD71}" type="slidenum">
              <a:t>&lt;#&gt;</a:t>
            </a:fld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AA0CD8A-D4A3-453E-BB0F-8041ADB7D21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38F7C-2A66-46EE-9DBC-AA3FD29D30D9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8A86B95-2727-4C6D-A5A0-B81F95EE7241}" type="slidenum">
              <a:t>&lt;#&gt;</a:t>
            </a:fld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85C3C70-60A8-40B1-B109-E08C1EC1063A}" type="slidenum">
              <a:t>&lt;#&gt;</a:t>
            </a:fld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4E9778B-0662-4582-BF99-16610145A7D2}" type="slidenum">
              <a:t>&lt;#&gt;</a:t>
            </a:fld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1370D2F-7244-4BCC-A100-EEF74A09C31A}" type="slidenum">
              <a:t>&lt;#&gt;</a:t>
            </a:fld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4198939-0E5F-4268-8E6F-F46BCA0FC2E2}" type="slidenum">
              <a:t>&lt;#&gt;</a:t>
            </a:fld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9021C9A-0163-42C1-A75B-85983D88F155}" type="slidenum">
              <a:t>&lt;#&gt;</a:t>
            </a:fld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27DC8DA-35AD-4C58-9427-E72126EF6F49}" type="slidenum">
              <a:t>&lt;#&gt;</a:t>
            </a:fld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8AC4FE7-47FA-4F22-B8DF-8705D4BA197D}" type="slidenum">
              <a:t>&lt;#&gt;</a:t>
            </a:fld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B1EBE7F-EC27-456E-868B-F2D84E23049E}" type="slidenum">
              <a:t>&lt;#&gt;</a:t>
            </a:fld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F0A84EE-E9C9-46D3-B7BB-521E62C2E3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C9FD0-DA8B-4C1C-A69D-3CC66B9D483D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63C23A5-3DF8-45D3-BF88-B0686A2A463B}" type="slidenum">
              <a:t>&lt;#&gt;</a:t>
            </a:fld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E8DF227-29B2-47B8-BC88-150243E2A3E9}" type="slidenum">
              <a:t>&lt;#&gt;</a:t>
            </a:fld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56BD6C4-A23A-461D-A1CE-A98B378CAF99}" type="slidenum">
              <a:t>&lt;#&gt;</a:t>
            </a:fld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BBB1A3A-86DD-4013-BC81-3E6E863048BB}" type="slidenum">
              <a:t>&lt;#&gt;</a:t>
            </a:fld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9F0ADA8-E031-4DA5-AB83-C5F0A980B28C}" type="slidenum">
              <a:t>&lt;#&gt;</a:t>
            </a:fld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5432EEB-132D-4321-8019-11C0468CA295}" type="slidenum">
              <a:t>&lt;#&gt;</a:t>
            </a:fld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7650A1F-36BF-429E-904B-BE09EA411203}" type="slidenum">
              <a:t>&lt;#&gt;</a:t>
            </a:fld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6339F68-F788-4DA7-83B2-E41E5F595EFC}" type="slidenum">
              <a:t>&lt;#&gt;</a:t>
            </a:fld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5489FAF-12C9-415F-A0AF-50E529336EE5}" type="slidenum">
              <a:t>&lt;#&gt;</a:t>
            </a:fld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DCFB54-5BB6-499D-8FE1-4B6D22E8275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804AD-81B3-4FC2-94A7-6F11DAE4FBF6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E46BE8-52D3-4542-AED8-36FAE42E2FF2}" type="slidenum">
              <a:t>&lt;#&gt;</a:t>
            </a:fld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942598-FA9B-4BC4-BBF7-5EFC308E52EA}" type="slidenum">
              <a:t>&lt;#&gt;</a:t>
            </a:fld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502CBE-A900-4BAB-A50E-338A43DD5CD5}" type="slidenum">
              <a:t>&lt;#&gt;</a:t>
            </a:fld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E9767F-DB05-4523-878A-72721DF73EAC}" type="slidenum">
              <a:t>&lt;#&gt;</a:t>
            </a:fld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2EA891-B5E8-43F1-906E-9C0AA5B2A5D2}" type="slidenum">
              <a:t>&lt;#&gt;</a:t>
            </a:fld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F77318-7309-40CD-8958-00B1F6AA7559}" type="slidenum">
              <a:t>&lt;#&gt;</a:t>
            </a:fld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99B3A0-0CD1-46FB-A1CA-89A102F44B7A}" type="slidenum">
              <a:t>&lt;#&gt;</a:t>
            </a:fld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012F42-C208-478D-B911-0DD96CB09299}" type="slidenum">
              <a:t>&lt;#&gt;</a:t>
            </a:fld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9F6409-1484-4462-8EAF-8C13EA685F7B}" type="slidenum">
              <a:t>&lt;#&gt;</a:t>
            </a:fld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1E8D02-C6AA-41B3-BA61-72F43AFB0E8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A01BA4-6A5E-4E2F-A38A-ED53F815E0A9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B3FF4F-A96F-4DB5-A944-B6F1C50E2CA5}" type="slidenum">
              <a:t>&lt;#&gt;</a:t>
            </a:fld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9EB464C-7FA0-4FB9-89BD-EEC5F631735D}" type="slidenum">
              <a:t>&lt;#&gt;</a:t>
            </a:fld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16A1709-3FC2-4D78-BA16-EAC960102906}" type="slidenum">
              <a:t>&lt;#&gt;</a:t>
            </a:fld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819928C-B0B3-4A6F-868B-D0D9CF375573}" type="slidenum">
              <a:t>&lt;#&gt;</a:t>
            </a:fld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AD5497B-4851-4412-9798-21C6561DB766}" type="slidenum">
              <a:t>&lt;#&gt;</a:t>
            </a:fld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671E086-B9B3-4D41-94C1-EE1980DEAC14}" type="slidenum">
              <a:t>&lt;#&gt;</a:t>
            </a:fld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248AFAC-6DF9-4D19-9750-60001FD8F78A}" type="slidenum">
              <a:t>&lt;#&gt;</a:t>
            </a:fld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C35449B-87A0-44E0-9C49-29CF97D01F31}" type="slidenum">
              <a:t>&lt;#&gt;</a:t>
            </a:fld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249C325-2F36-4401-9036-931FBC85FBDE}" type="slidenum">
              <a:t>&lt;#&gt;</a:t>
            </a:fld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644420E-52E0-47E7-A0A0-AA3631AF1BF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84E30-7C96-4531-BC82-0CDDF8CC9DCA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C7A4109-1F02-4071-BDA0-B3346A0B3FFC}" type="slidenum">
              <a:t>&lt;#&gt;</a:t>
            </a:fld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D20265C-EC85-4447-BD03-AB56E95A62B1}" type="slidenum">
              <a:t>&lt;#&gt;</a:t>
            </a:fld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BC25FE1-0779-4DC4-81FD-F03CCCEFB00A}" type="slidenum">
              <a:t>&lt;#&gt;</a:t>
            </a:fld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7E6705E-6A49-4730-AD68-7C22D47AB0DF}" type="slidenum">
              <a:t>&lt;#&gt;</a:t>
            </a:fld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CBA3B9F-FA94-4940-912B-8630BF6E49E4}" type="slidenum">
              <a:t>&lt;#&gt;</a:t>
            </a:fld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B634485-D700-4DEE-8C09-5E1FA560FE35}" type="slidenum">
              <a:t>&lt;#&gt;</a:t>
            </a:fld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D9B097C-7DAE-46F2-A210-415291FBE5CB}" type="slidenum">
              <a:t>&lt;#&gt;</a:t>
            </a:fld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7353AC9-9A75-4449-9A35-5156264317E5}" type="slidenum">
              <a:t>&lt;#&gt;</a:t>
            </a:fld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8121B93-D5CF-4E47-8D20-2A57BD9BDC3A}" type="slidenum">
              <a:t>&lt;#&gt;</a:t>
            </a:fld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0D2FA50-3639-48C8-9D1E-BED4207BEC8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F0568-76B0-475E-9D7A-547D80BA8C15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78C4A3A-7B87-427F-87EA-23FD16A02CCA}" type="slidenum">
              <a:t>&lt;#&gt;</a:t>
            </a:fld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D578927-9932-4BD4-8EAA-0D8FD3769FEF}" type="slidenum">
              <a:t>&lt;#&gt;</a:t>
            </a:fld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C6DC5E-B6FC-47DD-85E7-1EE53F5103CF}" type="slidenum">
              <a:t>&lt;#&gt;</a:t>
            </a:fld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7AF565D-BA22-4BB7-8E69-B694F3540934}" type="slidenum">
              <a:t>&lt;#&gt;</a:t>
            </a:fld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4AB180B-AC38-4A50-A3EC-9D051FF47396}" type="slidenum">
              <a:t>&lt;#&gt;</a:t>
            </a:fld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8CE188-6DC1-4797-9628-C1797758ED8B}" type="slidenum">
              <a:t>&lt;#&gt;</a:t>
            </a:fld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AE6188-E954-4DCF-9A0C-A7DEF6BD7885}" type="slidenum">
              <a:t>&lt;#&gt;</a:t>
            </a:fld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641621-4769-46D3-B756-1039FDAC1072}" type="slidenum">
              <a:t>&lt;#&gt;</a:t>
            </a:fld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D4FFA2-5082-436B-8DCC-1B35FB0D56C2}" type="slidenum">
              <a:t>&lt;#&gt;</a:t>
            </a:fld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249C5C-AAE9-41FD-AF36-0D26C553AC8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E23DF-9D10-4A20-8E6D-5FFC5B6941F6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C8FB38-5800-4D81-B34A-D99483446FB1}" type="slidenum">
              <a:t>&lt;#&gt;</a:t>
            </a:fld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2E8D81-2A28-49CD-8225-8059C4D5F148}" type="slidenum">
              <a:t>&lt;#&gt;</a:t>
            </a:fld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66D911-A254-4D8F-A7A9-DC452CD4B362}" type="slidenum">
              <a:t>&lt;#&gt;</a:t>
            </a:fld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9D7105-FCD6-48AA-AF9F-818E61C4EED4}" type="slidenum">
              <a:t>&lt;#&gt;</a:t>
            </a:fld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B085CF-E07B-4615-87ED-94F47EB05289}" type="slidenum">
              <a:t>&lt;#&gt;</a:t>
            </a:fld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F55DD5-92CB-407D-B18A-F303753DB9D6}" type="slidenum">
              <a:t>&lt;#&gt;</a:t>
            </a:fld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D35101-CC0D-45B2-BDAE-710D4DBE1B0C}" type="slidenum">
              <a:t>&lt;#&gt;</a:t>
            </a:fld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38B0490-B2F7-426C-98AA-C7400E5B58A4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EC5A2A1-10A1-42C9-A138-A2A66793AF3A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49E5FE-A872-448E-B0D2-FB86D638BA6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016C3-3D4D-4A84-BBF5-3AD3C966AB19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231768F-66B8-4942-ABD3-B633A1AF5DC4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FAA89DB-D4EB-462F-8E94-3055DAE83CC7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8D2AE21-286A-49F5-8E44-3D5CEAECEA35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B9C8852-E747-4F79-8785-4DC1641FBD82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E52FA3B-D92E-422E-AA3F-0557525C096F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2D1E01C-7E96-4D72-A779-DE24E4FDB1A3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506C317-8BEB-4182-9A6C-5BF2B0995135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4FC9687-0287-48F6-B089-E02219C2D76D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E69DFB9-CFEE-47D3-9C55-B4703E553EBA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0F07AF9-7BE7-494E-9017-284BA290284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6F851-96FC-4D87-9DF0-01161ED1788B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2FD24C8-E473-403B-A892-E25E5A625D21}" type="slidenum">
              <a:t>&lt;#&gt;</a:t>
            </a:fld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6B6D65E-BCBE-410F-9596-FFC00657AC6B}" type="slidenum">
              <a:t>&lt;#&gt;</a:t>
            </a:fld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12608F6-0499-4778-997F-79F1432ED388}" type="slidenum">
              <a:t>&lt;#&gt;</a:t>
            </a:fld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E8B59B8-63E2-45A7-A4E3-AD7D0A4D5BF7}" type="slidenum">
              <a:t>&lt;#&gt;</a:t>
            </a:fld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DFB8D06-BADB-47CC-A9F0-16B5D5C755BA}" type="slidenum">
              <a:t>&lt;#&gt;</a:t>
            </a:fld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C62B1E1-70D2-4CA1-B553-FCFC02540A9A}" type="slidenum">
              <a:t>&lt;#&gt;</a:t>
            </a:fld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B12005C-95C8-4E6D-9A45-2188E7B4C40A}" type="slidenum">
              <a:t>&lt;#&gt;</a:t>
            </a:fld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3944300-53CC-445D-A5CC-DE2A1EC8747A}" type="slidenum">
              <a:t>&lt;#&gt;</a:t>
            </a:fld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78CCB20-6DB4-4C5B-9D2D-635AAB505BAC}" type="slidenum">
              <a:t>&lt;#&gt;</a:t>
            </a:fld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CCBE7C6-0B4C-424F-81B7-925892CA9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AD2A-9832-4A9E-BD20-26AE33F366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866D7-609D-4BE0-AFE9-D04D816CCEBF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6CD9900-0D99-4D8C-9A28-3045BC56CF91}" type="slidenum">
              <a:t>&lt;#&gt;</a:t>
            </a:fld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74011C-1107-4CC1-909B-F32C69F3EC33}" type="slidenum">
              <a:t>&lt;#&gt;</a:t>
            </a:fld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6A4D97-1D22-4EA2-963A-144742BBDBC7}" type="slidenum">
              <a:t>&lt;#&gt;</a:t>
            </a:fld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36D657-3FEE-4486-9805-F2AE34C634B2}" type="slidenum">
              <a:t>&lt;#&gt;</a:t>
            </a:fld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83D8C7-66E1-448F-8307-B09780E8EF7F}" type="slidenum">
              <a:t>&lt;#&gt;</a:t>
            </a:fld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A0FB41-B84F-465B-8924-6960EBBAFB05}" type="slidenum">
              <a:t>&lt;#&gt;</a:t>
            </a:fld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9D0292-1D6F-4043-ACFB-F4D782E37A5B}" type="slidenum">
              <a:t>&lt;#&gt;</a:t>
            </a:fld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070417-DDD6-4B5E-8C15-CF674CCC1FE6}" type="slidenum">
              <a:t>&lt;#&gt;</a:t>
            </a:fld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59DBEA-9098-47FE-A14B-64D778135C16}" type="slidenum">
              <a:t>&lt;#&gt;</a:t>
            </a:fld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553086-4459-4179-B149-72A7284C0C8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23DBC-FC6D-4DA1-9622-6F0DC4FFBF5B}" type="slidenum">
              <a:t>&lt;#&gt;</a:t>
            </a:fld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585CD6-44CE-4603-8BA4-EA535B2559B7}" type="slidenum">
              <a:t>&lt;#&gt;</a:t>
            </a:fld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8CF23D-4912-4A56-956D-3647800F463F}" type="slidenum">
              <a:t>&lt;#&gt;</a:t>
            </a:fld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F88B07-E1C5-46B2-A747-A8356F03033A}" type="slidenum">
              <a:t>&lt;#&gt;</a:t>
            </a:fld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248D830-44DE-4400-85BA-3DB26EB457F8}" type="slidenum">
              <a:t>&lt;#&gt;</a:t>
            </a:fld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356A1C8-BF89-4BDD-916C-D44D892BDC52}" type="slidenum">
              <a:t>&lt;#&gt;</a:t>
            </a:fld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816E13E-62B0-4F97-B066-603A524332F8}" type="slidenum">
              <a:t>&lt;#&gt;</a:t>
            </a:fld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177A38B-6375-43D6-AAAC-5652B0B2E6FC}" type="slidenum">
              <a:t>&lt;#&gt;</a:t>
            </a:fld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FB47774-31A0-4F95-BCF5-EF54EB35B01F}" type="slidenum">
              <a:t>&lt;#&gt;</a:t>
            </a:fld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3AB68B9-F9B6-4E64-8B2F-74AE03471ED0}" type="slidenum">
              <a:t>&lt;#&gt;</a:t>
            </a:fld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82192BF-1108-4855-B13D-094748C2130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6FDC7-0491-4A60-BE24-23447BA0A4E1}" type="slidenum">
              <a:t>&lt;#&gt;</a:t>
            </a:fld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A4D19E6-C56B-4E40-81C8-A9368AD10084}" type="slidenum">
              <a:t>&lt;#&gt;</a:t>
            </a:fld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3FFA93F-95D1-462E-9288-D95E799355CD}" type="slidenum">
              <a:t>&lt;#&gt;</a:t>
            </a:fld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A082CF3-E8DA-42EE-93FC-35CC34F8DE7A}" type="slidenum">
              <a:t>&lt;#&gt;</a:t>
            </a:fld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41F7D56-5854-4284-BBDD-198C42966043}" type="slidenum">
              <a:t>&lt;#&gt;</a:t>
            </a:fld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6EF70C2-7BA9-4272-BF8D-622BA04B6F6C}" type="slidenum">
              <a:t>&lt;#&gt;</a:t>
            </a:fld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352DF88-A89E-42CE-B98C-FFDFFBB85E9C}" type="slidenum">
              <a:t>&lt;#&gt;</a:t>
            </a:fld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FD67A14-8056-4C70-98BF-E1503D810F50}" type="slidenum">
              <a:t>&lt;#&gt;</a:t>
            </a:fld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A4BD9D-46EB-42AE-BBAA-DCDFD4633579}" type="slidenum">
              <a:t>&lt;#&gt;</a:t>
            </a:fld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B147A89-D786-46AD-8F4A-0920F9B94DB4}" type="slidenum">
              <a:t>&lt;#&gt;</a:t>
            </a:fld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2DEE2B4-1C19-454D-8D95-97182E12775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6105E-D937-4DDA-ACEB-B60C68AAB1C7}" type="slidenum">
              <a:t>&lt;#&gt;</a:t>
            </a:fld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4DFCFC5-DF5C-4206-AA36-8D8E9B6EA5EE}" type="slidenum">
              <a:t>&lt;#&gt;</a:t>
            </a:fld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9AAD7A-54DB-45C3-BA58-D47CA0B3AB63}" type="slidenum">
              <a:t>&lt;#&gt;</a:t>
            </a:fld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B6E5F79-8EAA-4CC6-A26E-42209077BD3F}" type="slidenum">
              <a:t>&lt;#&gt;</a:t>
            </a:fld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D31C459-1FA2-47A8-8498-F16FBAFFC0C5}" type="slidenum">
              <a:t>&lt;#&gt;</a:t>
            </a:fld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1F6AE9F-A378-47DD-9FB7-9A33AB3BF1BE}" type="slidenum">
              <a:t>&lt;#&gt;</a:t>
            </a:fld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7114191-78CD-427D-9032-B087F26CEF3C}" type="slidenum">
              <a:t>&lt;#&gt;</a:t>
            </a:fld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F0832B4-7C80-47BC-BDE4-191F6CF4E3B8}" type="slidenum">
              <a:t>&lt;#&gt;</a:t>
            </a:fld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9E2737-CB03-4305-9C43-B372E4C00F3E}" type="slidenum">
              <a:t>&lt;#&gt;</a:t>
            </a:fld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2F5F47-2B5D-4B24-90F5-85DAFBC28C22}" type="slidenum">
              <a:t>&lt;#&gt;</a:t>
            </a:fld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CBDC36-2FF0-4A19-BE99-9F1E1AB75BE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21EAB-0B9B-4659-9743-B25B6D26162F}" type="slidenum">
              <a:t>&lt;#&gt;</a:t>
            </a:fld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04DAB6-1387-4718-BB8D-248DCED12421}" type="slidenum">
              <a:t>&lt;#&gt;</a:t>
            </a:fld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E1A2B2-0C2B-4B2A-B99E-DBEF644F105C}" type="slidenum">
              <a:t>&lt;#&gt;</a:t>
            </a:fld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660C1B-61F7-4FC8-83D1-CD907C5898A7}" type="slidenum">
              <a:t>&lt;#&gt;</a:t>
            </a:fld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893C86-F8CE-4631-A8BD-AB2D27B59136}" type="slidenum">
              <a:t>&lt;#&gt;</a:t>
            </a:fld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00A6E9-DF81-4503-BE9C-6462CEA498F2}" type="slidenum">
              <a:t>&lt;#&gt;</a:t>
            </a:fld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E98A9C-0115-4FF2-8E6B-FA6F30F03308}" type="slidenum">
              <a:t>&lt;#&gt;</a:t>
            </a:fld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1144F8-0C66-4401-B1BA-8D3DE1696FD8}" type="slidenum">
              <a:t>&lt;#&gt;</a:t>
            </a:fld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816FB6-822C-43B2-9ABC-E863E6F0477A}" type="slidenum">
              <a:t>&lt;#&gt;</a:t>
            </a:fld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BB0733-5DB8-4C87-A935-91ED8C547299}" type="slidenum">
              <a:t>&lt;#&gt;</a:t>
            </a:fld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71116D0-0576-440A-87DF-E4B6AA2D72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B9736-D019-44AE-AF51-0C3D02F9FDFC}" type="slidenum">
              <a:t>&lt;#&gt;</a:t>
            </a:fld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241CBDB-0C42-4342-AC97-304133A3547E}" type="slidenum">
              <a:t>&lt;#&gt;</a:t>
            </a:fld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C52B05D-5350-4702-84F8-4883FEF8FFA9}" type="slidenum">
              <a:t>&lt;#&gt;</a:t>
            </a:fld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D9E26AF-1AB5-422E-9463-FA1D898026CE}" type="slidenum">
              <a:t>&lt;#&gt;</a:t>
            </a:fld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B981F1E-2144-4EF6-8C4F-34C268386D8E}" type="slidenum">
              <a:t>&lt;#&gt;</a:t>
            </a:fld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6EC2227-4EEF-436B-9FCE-2ED931E404F8}" type="slidenum">
              <a:t>&lt;#&gt;</a:t>
            </a:fld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21DF888-F607-44A7-8566-0F4EC24AC41C}" type="slidenum">
              <a:t>&lt;#&gt;</a:t>
            </a:fld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4172D99-2604-4897-9625-1416DE0F8404}" type="slidenum">
              <a:t>&lt;#&gt;</a:t>
            </a:fld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61AB4C7-CD23-4318-BE9A-149D64891CBB}" type="slidenum">
              <a:t>&lt;#&gt;</a:t>
            </a:fld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DA35360-A84D-4E50-B210-534C86EB7628}" type="slidenum">
              <a:t>&lt;#&gt;</a:t>
            </a:fld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DB43436-786D-45D5-840E-78B9987D311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3C4C2-05C3-40D7-9624-C299778C2536}" type="slidenum">
              <a:t>&lt;#&gt;</a:t>
            </a:fld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B916F86-88A0-4823-9728-7156448D8DE2}" type="slidenum">
              <a:t>&lt;#&gt;</a:t>
            </a:fld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0DA8EF6-D542-4F7F-A4E2-42747180A3A3}" type="slidenum">
              <a:t>&lt;#&gt;</a:t>
            </a:fld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19EFCEF-F7F3-452D-AD38-527063CB698F}" type="slidenum">
              <a:t>&lt;#&gt;</a:t>
            </a:fld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3B1E152-2756-47FF-98AA-67D6F01DF76A}" type="slidenum">
              <a:t>&lt;#&gt;</a:t>
            </a:fld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F64B2EA-3B84-4E09-BC19-051B11247524}" type="slidenum">
              <a:t>&lt;#&gt;</a:t>
            </a:fld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6DCE466-F300-403C-9CF8-5920DF88F545}" type="slidenum">
              <a:t>&lt;#&gt;</a:t>
            </a:fld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332CD8F-5C35-4991-8729-E06326EFC3CD}" type="slidenum">
              <a:t>&lt;#&gt;</a:t>
            </a:fld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3EF173C-53D0-487F-9AFE-8427F0E5B56D}" type="slidenum">
              <a:t>&lt;#&gt;</a:t>
            </a:fld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52D3E0F-53A6-47A4-9A87-791FE85820AE}" type="slidenum">
              <a:t>&lt;#&gt;</a:t>
            </a:fld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A9CFEB7-92E5-4290-8000-50664A22A36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CBA88-AA0E-4CE5-BF16-32EEF47DEDA0}" type="slidenum">
              <a:t>&lt;#&gt;</a:t>
            </a:fld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C1C5C2A-A164-45F4-BEC6-A3ABD8ACBE7B}" type="slidenum">
              <a:t>&lt;#&gt;</a:t>
            </a:fld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1DF8556-38A7-4093-B493-FD5352280008}" type="slidenum">
              <a:t>&lt;#&gt;</a:t>
            </a:fld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D85A5E6-A67F-42DC-81AB-7414B0AA533F}" type="slidenum">
              <a:t>&lt;#&gt;</a:t>
            </a:fld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59B366-FFAA-4633-88B9-37BA109DDD40}" type="slidenum">
              <a:t>&lt;#&gt;</a:t>
            </a:fld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59DA76-FDB3-4C5A-B738-B523252BC98E}" type="slidenum">
              <a:t>&lt;#&gt;</a:t>
            </a:fld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2361CE-AF5C-4DD5-95D2-FEFDEA05D491}" type="slidenum">
              <a:t>&lt;#&gt;</a:t>
            </a:fld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CE61B9-7F84-4077-88EE-B413CAB38EBA}" type="slidenum">
              <a:t>&lt;#&gt;</a:t>
            </a:fld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379C93-332F-44F3-9369-827B0FDDD4AF}" type="slidenum">
              <a:t>&lt;#&gt;</a:t>
            </a:fld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3CA96F-3595-42AE-AC01-0F11507335BC}" type="slidenum">
              <a:t>&lt;#&gt;</a:t>
            </a:fld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019873-20E9-479C-997D-8C2CCB8D32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5EFD9-9953-43DB-9DD3-C27177909FF9}" type="slidenum">
              <a:t>&lt;#&gt;</a:t>
            </a:fld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BE11BB-8F85-4A59-8664-9A09071C9EED}" type="slidenum">
              <a:t>&lt;#&gt;</a:t>
            </a:fld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DB162D-F5F2-420A-A1D0-2C5AEC90526D}" type="slidenum">
              <a:t>&lt;#&gt;</a:t>
            </a:fld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89F4A1-DA9D-47CA-A78B-A167D5D94A17}" type="slidenum">
              <a:t>&lt;#&gt;</a:t>
            </a:fld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7E1A2D-31C2-4207-BE4D-4CDC5D70CD91}" type="slidenum">
              <a:t>&lt;#&gt;</a:t>
            </a:fld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7F0FC7-33B2-414D-875B-08AE476562F0}" type="slidenum">
              <a:t>&lt;#&gt;</a:t>
            </a:fld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6ACF097-A03A-4F7F-AED6-788703F8FCEF}" type="slidenum">
              <a:t>&lt;#&gt;</a:t>
            </a:fld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0341E0C-3D9E-4841-9C92-A3E2DE9847A5}" type="slidenum">
              <a:t>&lt;#&gt;</a:t>
            </a:fld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94CA688-0F38-4FEF-8946-CC575145364C}" type="slidenum">
              <a:t>&lt;#&gt;</a:t>
            </a:fld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991D402-AEBD-4627-85A5-58D638BE64D4}" type="slidenum">
              <a:t>&lt;#&gt;</a:t>
            </a:fld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3F913AF-2162-42A3-8ECC-A4970850B82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DB317-006B-4698-B6AF-63ECBBD3178F}" type="slidenum">
              <a:t>&lt;#&gt;</a:t>
            </a:fld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2DA0DD5-94ED-4942-A939-BBE565EE9F63}" type="slidenum">
              <a:t>&lt;#&gt;</a:t>
            </a:fld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D2618A2-25E8-41C3-9CA0-E87AE04DC3EA}" type="slidenum">
              <a:t>&lt;#&gt;</a:t>
            </a:fld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ADE0657-1605-4B7B-A742-660C586FBD87}" type="slidenum">
              <a:t>&lt;#&gt;</a:t>
            </a:fld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1464F60-DCC3-4C6B-8C83-6CB9576EC11D}" type="slidenum">
              <a:t>&lt;#&gt;</a:t>
            </a:fld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C3F1AED-8B18-455B-88D2-A7F6E1191202}" type="slidenum">
              <a:t>&lt;#&gt;</a:t>
            </a:fld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C28C567-B124-498A-AA79-95F671B7B315}" type="slidenum">
              <a:t>&lt;#&gt;</a:t>
            </a:fld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267CF3C-F5E1-482A-AB97-7AD5D697A9E0}" type="slidenum">
              <a:t>&lt;#&gt;</a:t>
            </a:fld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73E57EB-FBFE-42CD-863B-DFE8DEFC5D01}" type="slidenum">
              <a:t>&lt;#&gt;</a:t>
            </a:fld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6358CA6-B1DD-432D-B2E2-DAAA6B5DC205}" type="slidenum">
              <a:t>&lt;#&gt;</a:t>
            </a:fld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5346050-1941-4B5A-BEEB-AC6CF7883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4BEA-C620-40BD-A722-8D2DBED8013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67E85-532D-4ECF-B30E-13AFF9D3F2BE}" type="slidenum">
              <a:t>&lt;#&gt;</a:t>
            </a:fld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48FEE81-B2E5-4A8C-9148-8390B3AD2698}" type="slidenum">
              <a:t>&lt;#&gt;</a:t>
            </a:fld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2ECA6B5-26D2-49A2-B081-30472498D88F}" type="slidenum">
              <a:t>&lt;#&gt;</a:t>
            </a:fld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21C76E-9038-47F6-8F08-06FE6DB799E3}" type="slidenum">
              <a:t>&lt;#&gt;</a:t>
            </a:fld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13D24DD-1C50-45B5-BE07-26B0E658C54C}" type="slidenum">
              <a:t>&lt;#&gt;</a:t>
            </a:fld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6F3EAFA-D92D-4741-A453-6AAB3AC39711}" type="slidenum">
              <a:t>&lt;#&gt;</a:t>
            </a:fld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954740A-315F-4763-9DC1-67D004738A5C}" type="slidenum">
              <a:t>&lt;#&gt;</a:t>
            </a:fld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E77C6DE-675A-4119-B553-5AA65DF8E39A}" type="slidenum">
              <a:t>&lt;#&gt;</a:t>
            </a:fld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8358586-8C0A-4980-BAF9-2A91C41B2BC5}" type="slidenum">
              <a:t>&lt;#&gt;</a:t>
            </a:fld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F4AE726-5F66-47A9-99E6-9E971B22A034}" type="slidenum">
              <a:t>&lt;#&gt;</a:t>
            </a:fld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E2C064-9CC4-4917-80D5-11B16D95848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77549-EAEE-452E-85E3-31E779819193}" type="slidenum">
              <a:t>&lt;#&gt;</a:t>
            </a:fld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C4916F-B2F3-43B7-A4CB-A4E9F742B9C8}" type="slidenum">
              <a:t>&lt;#&gt;</a:t>
            </a:fld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5E36B7-919E-43A0-8BA4-167F02EBE834}" type="slidenum">
              <a:t>&lt;#&gt;</a:t>
            </a:fld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80FAD4-59F5-46AB-81A8-283D41A1F8AF}" type="slidenum">
              <a:t>&lt;#&gt;</a:t>
            </a:fld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3A0776-7323-45B3-94C4-99C4653C6DAD}" type="slidenum">
              <a:t>&lt;#&gt;</a:t>
            </a:fld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678585-A0E8-429B-B740-802187846CB8}" type="slidenum">
              <a:t>&lt;#&gt;</a:t>
            </a:fld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C818E8-74AA-4E5E-9EE3-2288AF4C8132}" type="slidenum">
              <a:t>&lt;#&gt;</a:t>
            </a:fld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75F90E-9CCA-4830-B598-B9B8CE318683}" type="slidenum">
              <a:t>&lt;#&gt;</a:t>
            </a:fld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A48FD4-0CA7-404A-A610-D471BDD7BC7A}" type="slidenum">
              <a:t>&lt;#&gt;</a:t>
            </a:fld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F9D96A-D431-4B4A-95EF-E0698207CE06}" type="slidenum">
              <a:t>&lt;#&gt;</a:t>
            </a:fld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DF2523-3C48-4374-BC57-2EC5748B96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96B0C-C4C4-487A-8A9D-D2942DC9BE7E}" type="slidenum">
              <a:t>&lt;#&gt;</a:t>
            </a:fld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780076-48D1-49DF-B7FA-44327A709524}" type="slidenum">
              <a:t>&lt;#&gt;</a:t>
            </a:fld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E5F21CF-E2D7-417A-9379-1716D1805D8A}" type="slidenum">
              <a:t>&lt;#&gt;</a:t>
            </a:fld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4A5D831-3D7B-4344-91D7-C14EC41289C9}" type="slidenum">
              <a:t>&lt;#&gt;</a:t>
            </a:fld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6FA7A12-D0AC-4771-8C21-8AD1E0D7A0F3}" type="slidenum">
              <a:t>&lt;#&gt;</a:t>
            </a:fld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999E0B0-A997-4954-B81F-64B12AA50663}" type="slidenum">
              <a:t>&lt;#&gt;</a:t>
            </a:fld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57F6DB6-D1C9-43F2-8448-B5C4EA1DDB3A}" type="slidenum">
              <a:t>&lt;#&gt;</a:t>
            </a:fld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C9BFF9A-88BA-4BAF-8D29-0299A77825AD}" type="slidenum">
              <a:t>&lt;#&gt;</a:t>
            </a:fld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1D61A2-85A4-4C43-9B9A-840C22E90602}" type="slidenum">
              <a:t>&lt;#&gt;</a:t>
            </a:fld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3530844-057C-4278-B5A4-66473066088D}" type="slidenum">
              <a:t>&lt;#&gt;</a:t>
            </a:fld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FC5338C-1CEE-427C-BAC9-6C3B17BF3F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7DC07-A293-4E57-A699-FEDD050C600E}" type="slidenum">
              <a:t>&lt;#&gt;</a:t>
            </a:fld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F2FE14A-E8C7-4869-9BFF-420D5C9A1045}" type="slidenum">
              <a:t>&lt;#&gt;</a:t>
            </a:fld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9D68421-1D70-4E7F-BCE5-0F72404BBF2B}" type="slidenum">
              <a:t>&lt;#&gt;</a:t>
            </a:fld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10EF583-251F-45F5-9490-2A301FE97099}" type="slidenum">
              <a:t>&lt;#&gt;</a:t>
            </a:fld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8C6D7F7-69F3-4184-8659-5047CBCD2C82}" type="slidenum">
              <a:t>&lt;#&gt;</a:t>
            </a:fld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35199A0-CDEB-4111-B740-4C193E5CC725}" type="slidenum">
              <a:t>&lt;#&gt;</a:t>
            </a:fld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EBBCA29-53C7-44D0-A634-961CFD6F51E7}" type="slidenum">
              <a:t>&lt;#&gt;</a:t>
            </a:fld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E984788-33D6-4178-9F92-F01098A1F0ED}" type="slidenum">
              <a:t>&lt;#&gt;</a:t>
            </a:fld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646E906-AB4B-4CD0-9503-8ECFFBA24B41}" type="slidenum">
              <a:t>&lt;#&gt;</a:t>
            </a:fld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C982128-222B-43F2-951F-D9EA376C65FA}" type="slidenum">
              <a:t>&lt;#&gt;</a:t>
            </a:fld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84A58BF-B78B-41AD-8752-8A9F3683AB0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22626-3EC6-4B3C-8077-A3512E09BB4B}" type="slidenum">
              <a:t>&lt;#&gt;</a:t>
            </a:fld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E163DDD-4A50-496E-B210-FF0E9FA2D85D}" type="slidenum">
              <a:t>&lt;#&gt;</a:t>
            </a:fld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1DB4E54-F637-4FF1-9BA8-50E7BD42B1A8}" type="slidenum">
              <a:t>&lt;#&gt;</a:t>
            </a:fld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DF8E454-45E6-4A55-9AF2-28223A286B46}" type="slidenum">
              <a:t>&lt;#&gt;</a:t>
            </a:fld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74CFAC2-2695-41B7-8978-9A4E40026E36}" type="slidenum">
              <a:t>&lt;#&gt;</a:t>
            </a:fld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1CA9BAB-17AD-47A5-A02C-8962540E55F2}" type="slidenum">
              <a:t>&lt;#&gt;</a:t>
            </a:fld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75D3B2-D61F-49C4-B9AF-57FC18383E6A}" type="slidenum">
              <a:t>&lt;#&gt;</a:t>
            </a:fld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3ED73D-6EFC-4A32-90AE-48359E047B8C}" type="slidenum">
              <a:t>&lt;#&gt;</a:t>
            </a:fld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58946F3-0D80-4856-BEB3-87D462222D88}" type="slidenum">
              <a:t>&lt;#&gt;</a:t>
            </a:fld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8EB53F-CEEA-4205-97A0-128C8DEFD501}" type="slidenum">
              <a:t>&lt;#&gt;</a:t>
            </a:fld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0B13EA-17A3-48B7-81CA-E25D5D3AF73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35B5-67C1-4C0C-86F2-FD4DF05DD812}" type="slidenum">
              <a:t>&lt;#&gt;</a:t>
            </a:fld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DB1709-D847-4AD6-BD6F-64D1EF2771BD}" type="slidenum">
              <a:t>&lt;#&gt;</a:t>
            </a:fld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B62F42-E3D9-4846-A79E-6F60CFA45687}" type="slidenum">
              <a:t>&lt;#&gt;</a:t>
            </a:fld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8AA997-F450-453B-B457-E4072A9EA052}" type="slidenum">
              <a:t>&lt;#&gt;</a:t>
            </a:fld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22C30A-5B5E-48FF-896A-B8440F7C1361}" type="slidenum">
              <a:t>&lt;#&gt;</a:t>
            </a:fld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AAE741-9743-47CA-BF43-7621DCC22868}" type="slidenum">
              <a:t>&lt;#&gt;</a:t>
            </a:fld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9152B0-697D-4584-A9D7-4D47359F2EC8}" type="slidenum">
              <a:t>&lt;#&gt;</a:t>
            </a:fld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80BDD4-8DAC-4F9B-84BC-064496E936A5}" type="slidenum">
              <a:t>&lt;#&gt;</a:t>
            </a:fld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2F2C767-6211-41CE-8B7F-70DA396F4D86}" type="slidenum">
              <a:t>&lt;#&gt;</a:t>
            </a:fld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10005BE-59D8-471F-88D5-301EBC4C33D6}" type="slidenum">
              <a:t>&lt;#&gt;</a:t>
            </a:fld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0276206-6269-41D8-8FD8-EC27D4C1C24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52F0-4851-42B2-87A1-A3E8B5E9A4F5}" type="slidenum">
              <a:t>&lt;#&gt;</a:t>
            </a:fld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0C58520-C5B4-4B5D-B016-5366409A95E4}" type="slidenum">
              <a:t>&lt;#&gt;</a:t>
            </a:fld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2341D29-3732-4F24-9998-CF4038A5B753}" type="slidenum">
              <a:t>&lt;#&gt;</a:t>
            </a:fld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3CCF177-68C6-4FA6-979D-1A0FD7D72B8A}" type="slidenum">
              <a:t>&lt;#&gt;</a:t>
            </a:fld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43861CE-99C7-4D4F-8B75-C3E8DA469E7F}" type="slidenum">
              <a:t>&lt;#&gt;</a:t>
            </a:fld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CF50C16-810B-4B6B-B4CB-FFE7537966EA}" type="slidenum">
              <a:t>&lt;#&gt;</a:t>
            </a:fld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9DC83A3-B631-454C-AFD3-B2B6EFEF6047}" type="slidenum">
              <a:t>&lt;#&gt;</a:t>
            </a:fld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014B1CD-690D-46A4-A21C-D350E668A6F0}" type="slidenum">
              <a:t>&lt;#&gt;</a:t>
            </a:fld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8851558-B956-481D-A200-25C0BD04BF08}" type="slidenum">
              <a:t>&lt;#&gt;</a:t>
            </a:fld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82194D5-8E95-498A-B416-B641589D8E70}" type="slidenum">
              <a:t>&lt;#&gt;</a:t>
            </a:fld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71A0764-3BE3-4ACE-895A-53F5E0CDA80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1C60-395E-412B-A929-FA171512CFFF}" type="slidenum">
              <a:t>&lt;#&gt;</a:t>
            </a:fld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059D1C9-02CA-4A33-BC33-87DB2747BFEB}" type="slidenum">
              <a:t>&lt;#&gt;</a:t>
            </a:fld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0B77C18-303A-4EF1-B1AB-5499DE00B51A}" type="slidenum">
              <a:t>&lt;#&gt;</a:t>
            </a:fld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645BCF6-B7AD-45F6-A16C-F10152BD848A}" type="slidenum">
              <a:t>&lt;#&gt;</a:t>
            </a:fld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0125E09-98F3-40C7-A25E-809A4F8BF275}" type="slidenum">
              <a:t>&lt;#&gt;</a:t>
            </a:fld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7EBB9BE-C357-444B-A835-DB562E02628C}" type="slidenum">
              <a:t>&lt;#&gt;</a:t>
            </a:fld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93483C7-F4E6-4A0F-8BBB-38C391726CA3}" type="slidenum">
              <a:t>&lt;#&gt;</a:t>
            </a:fld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14B2DBD-0205-454F-B7ED-9C32FB6EFC8A}" type="slidenum">
              <a:t>&lt;#&gt;</a:t>
            </a:fld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606056C-67B6-4EB9-9190-8A808802E417}" type="slidenum">
              <a:t>&lt;#&gt;</a:t>
            </a:fld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2ED146A-6F79-4414-89DE-F912FCB0C087}" type="slidenum">
              <a:t>&lt;#&gt;</a:t>
            </a:fld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1C51171-C86D-4416-AF69-7A23925E1B2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0FD2-A839-413B-928C-9081F1ABAD6E}" type="slidenum">
              <a:t>&lt;#&gt;</a:t>
            </a:fld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65FBF6E-2817-43FD-A9D7-1802D942C1ED}" type="slidenum">
              <a:t>&lt;#&gt;</a:t>
            </a:fld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8F9CC6-D92F-49F0-A15A-3924FFDEC886}" type="slidenum">
              <a:t>&lt;#&gt;</a:t>
            </a:fld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4544A7-0DCF-48FA-AF35-8585854BAF8D}" type="slidenum">
              <a:t>&lt;#&gt;</a:t>
            </a:fld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A746EFE-5F96-4055-A18C-ACD75F128559}" type="slidenum">
              <a:t>&lt;#&gt;</a:t>
            </a:fld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AB1D0D-3DCE-4CB5-A4B5-4FAB158DCD2C}" type="slidenum">
              <a:t>&lt;#&gt;</a:t>
            </a:fld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4BC64A3-3C94-4B20-99A4-BBF1A186A955}" type="slidenum">
              <a:t>&lt;#&gt;</a:t>
            </a:fld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996BF4-1F84-4C3D-824F-5470A29445A8}" type="slidenum">
              <a:t>&lt;#&gt;</a:t>
            </a:fld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238D9A-DC68-429D-95AF-BEC412DEC878}" type="slidenum">
              <a:t>&lt;#&gt;</a:t>
            </a:fld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BFC8F2-F3C2-4242-939E-2B1CC9ACF1D3}" type="slidenum">
              <a:t>&lt;#&gt;</a:t>
            </a:fld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5D9080-8E4D-4C01-B41B-9465626072E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C1B6-2498-4C8B-A282-084DD5C2AA3F}" type="slidenum">
              <a:t>&lt;#&gt;</a:t>
            </a:fld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BEC5F0-3AA5-403D-9A4C-66A2659A6B1D}" type="slidenum">
              <a:t>&lt;#&gt;</a:t>
            </a:fld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D05BED-FF3C-47FC-A888-A1D3BEA95B41}" type="slidenum">
              <a:t>&lt;#&gt;</a:t>
            </a:fld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C2273F-8449-45B6-8EA0-525D60532953}" type="slidenum">
              <a:t>&lt;#&gt;</a:t>
            </a:fld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B6AC839-86D7-43EF-B7D1-A92BD8811B13}" type="slidenum">
              <a:t>&lt;#&gt;</a:t>
            </a:fld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381386C-3702-40FB-8D48-E065DC8A5E90}" type="slidenum">
              <a:t>&lt;#&gt;</a:t>
            </a:fld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659A0CE-1255-4AE0-B3C4-3DCF6957DBF3}" type="slidenum">
              <a:t>&lt;#&gt;</a:t>
            </a:fld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6D0003E-9770-45B3-BAFF-933AD3AFEBB6}" type="slidenum">
              <a:t>&lt;#&gt;</a:t>
            </a:fld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0C66293-2EFE-4597-935B-335F6F2526C0}" type="slidenum">
              <a:t>&lt;#&gt;</a:t>
            </a:fld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ED78ED9-C4E5-4079-B4FA-C4539641D516}" type="slidenum">
              <a:t>&lt;#&gt;</a:t>
            </a:fld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9FA660F-7E00-423A-8313-BB9431B087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83AA-43EC-41FD-BCD1-F953C1D188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B7AE3-0755-47E6-B659-D2AFCA1F9AA4}" type="slidenum">
              <a:t>&lt;#&gt;</a:t>
            </a:fld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7F25DFB-A995-4E9A-9595-EB92489F8FE7}" type="slidenum">
              <a:t>&lt;#&gt;</a:t>
            </a:fld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2D668A3-4C76-469B-BE3B-4C508025976D}" type="slidenum">
              <a:t>&lt;#&gt;</a:t>
            </a:fld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8F5D746-B93C-40EA-99A1-215490F5CF40}" type="slidenum">
              <a:t>&lt;#&gt;</a:t>
            </a:fld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F3AFD83-04EB-441B-AC68-1ABD3C0489A3}" type="slidenum">
              <a:t>&lt;#&gt;</a:t>
            </a:fld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9363FDC-23EE-456E-B8BD-76F8104838F9}" type="slidenum">
              <a:t>&lt;#&gt;</a:t>
            </a:fld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D05ADAB-4B2C-4F74-86FD-459B73B85111}" type="slidenum">
              <a:t>&lt;#&gt;</a:t>
            </a:fld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CF922AB-C025-4ABE-9473-60DB9954C2F4}" type="slidenum">
              <a:t>&lt;#&gt;</a:t>
            </a:fld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2FCB800-836D-4A9B-B9C0-F0ECC10BD4D2}" type="slidenum">
              <a:t>&lt;#&gt;</a:t>
            </a:fld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ACEEEB3-58D5-425E-928A-521F0CE1A86B}" type="slidenum">
              <a:t>&lt;#&gt;</a:t>
            </a:fld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8B6968C-5775-46D9-BB38-52F992452C4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B4F2-0397-4F31-B825-46BE06DC2ADB}" type="slidenum">
              <a:t>&lt;#&gt;</a:t>
            </a:fld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32AA1AC-8CDD-47E6-ABB2-1CB21FAA1DB6}" type="slidenum">
              <a:t>&lt;#&gt;</a:t>
            </a:fld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30403DF-11E8-4BA9-89A5-8252CC3240C7}" type="slidenum">
              <a:t>&lt;#&gt;</a:t>
            </a:fld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6BD17E9-6FF7-47A3-833F-E48F93D63381}" type="slidenum">
              <a:t>&lt;#&gt;</a:t>
            </a:fld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DF93829-7539-493F-AD03-596610570843}" type="slidenum">
              <a:t>&lt;#&gt;</a:t>
            </a:fld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F779651-3C68-433D-BB84-8EA7D2F4693F}" type="slidenum">
              <a:t>&lt;#&gt;</a:t>
            </a:fld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63E73A8-6C71-4F05-A47D-46603C2881B9}" type="slidenum">
              <a:t>&lt;#&gt;</a:t>
            </a:fld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33987AC-B2E7-476A-AF3C-187651CBEF47}" type="slidenum">
              <a:t>&lt;#&gt;</a:t>
            </a:fld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D0DD41-884A-4691-8F11-CA8C3767C2DC}" type="slidenum">
              <a:t>&lt;#&gt;</a:t>
            </a:fld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47D6E4-9D8C-4633-87F3-7730F37E2FE5}" type="slidenum">
              <a:t>&lt;#&gt;</a:t>
            </a:fld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3B76FF-A0BC-4145-A707-B6940CC1EF0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1DFA-7EBF-4F80-A43E-399B99D38495}" type="slidenum">
              <a:t>&lt;#&gt;</a:t>
            </a:fld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D59FF1-1162-47C8-BAB2-1D253D4980D9}" type="slidenum">
              <a:t>&lt;#&gt;</a:t>
            </a:fld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1D78BD-DF84-4C1E-AA42-E2AC7ED4DDA0}" type="slidenum">
              <a:t>&lt;#&gt;</a:t>
            </a:fld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C060FE-0D4B-4B08-9EC0-4EC7802B54A2}" type="slidenum">
              <a:t>&lt;#&gt;</a:t>
            </a:fld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B61792-2FB9-4E37-AF81-740123711D75}" type="slidenum">
              <a:t>&lt;#&gt;</a:t>
            </a:fld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24307DF-30A2-4EAE-AF61-483482C2080F}" type="slidenum">
              <a:t>&lt;#&gt;</a:t>
            </a:fld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F9E8B7-708E-4A86-910F-137769A133AA}" type="slidenum">
              <a:t>&lt;#&gt;</a:t>
            </a:fld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B26023-BD80-4F13-9DEC-15F3332D1306}" type="slidenum">
              <a:t>&lt;#&gt;</a:t>
            </a:fld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89FF46-D08B-4534-866D-29EB314FB810}" type="slidenum">
              <a:t>&lt;#&gt;</a:t>
            </a:fld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85FF81-0A56-4436-86FD-D9F26A8F88F0}" type="slidenum">
              <a:t>&lt;#&gt;</a:t>
            </a:fld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4D8C430-0995-49DF-A7DA-E614FE88081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1762C-9E43-4A0D-A4B3-C6EC2C21A6A5}" type="slidenum">
              <a:t>&lt;#&gt;</a:t>
            </a:fld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0B440D9-B284-42E9-B98E-1E8933DF21C6}" type="slidenum">
              <a:t>&lt;#&gt;</a:t>
            </a:fld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3DAD0A1-CF45-4A62-8EFB-FABF3F6BF043}" type="slidenum">
              <a:t>&lt;#&gt;</a:t>
            </a:fld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1EB11BA-CEE7-4A24-9910-ABFEF4647EB4}" type="slidenum">
              <a:t>&lt;#&gt;</a:t>
            </a:fld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90825AA-D4EA-4288-8A27-A8C1F4020BDF}" type="slidenum">
              <a:t>&lt;#&gt;</a:t>
            </a:fld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3F6FB3C-38E0-4299-AE52-CEDC50B19F79}" type="slidenum">
              <a:t>&lt;#&gt;</a:t>
            </a:fld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08B2AE9-0EAC-4FE8-BD28-CFB645199AD0}" type="slidenum">
              <a:t>&lt;#&gt;</a:t>
            </a:fld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AD29B57-D123-49C4-BEA8-60B95A3266CB}" type="slidenum">
              <a:t>&lt;#&gt;</a:t>
            </a:fld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118A72A-DB3A-4C74-BB68-D786ACFC4151}" type="slidenum">
              <a:t>&lt;#&gt;</a:t>
            </a:fld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54872AC-87BF-4D56-B59C-785FCBAF2763}" type="slidenum">
              <a:t>&lt;#&gt;</a:t>
            </a:fld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BE51AC6-21BD-4790-B51B-AC7ADE29DBD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3C3B-0D59-4440-AB8D-A8CBC4494AD5}" type="slidenum">
              <a:t>&lt;#&gt;</a:t>
            </a:fld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E6394CC-5B21-49DB-8733-8DD42DB90FC2}" type="slidenum">
              <a:t>&lt;#&gt;</a:t>
            </a:fld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AE1FF7C-843A-42EC-8BC8-AF6B0C61B039}" type="slidenum">
              <a:t>&lt;#&gt;</a:t>
            </a:fld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9F8B46D-9EFF-4FCC-9E63-837EB015D69E}" type="slidenum">
              <a:t>&lt;#&gt;</a:t>
            </a:fld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BC4E118-C7F8-4F58-B5A8-3C1B44738126}" type="slidenum">
              <a:t>&lt;#&gt;</a:t>
            </a:fld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47E5051-4C39-4EDF-BA8C-E41414A16BB8}" type="slidenum">
              <a:t>&lt;#&gt;</a:t>
            </a:fld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F87DFD1-B46C-4B79-BAFC-2F5A019294FA}" type="slidenum">
              <a:t>&lt;#&gt;</a:t>
            </a:fld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2E0ADAB-94EA-4A2D-8B62-0B43B295AFC5}" type="slidenum">
              <a:t>&lt;#&gt;</a:t>
            </a:fld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F008AA4-A067-4E60-A816-4780D50CF266}" type="slidenum">
              <a:t>&lt;#&gt;</a:t>
            </a:fld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B3CC00D-4EAF-4F6A-8D2A-4D01C24AA085}" type="slidenum">
              <a:t>&lt;#&gt;</a:t>
            </a:fld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0017FA7-6F58-4346-8BA2-067D7FEF66D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CBEC6-5440-495E-9A22-A7758901A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6079CB7-7AFD-49F3-A8EB-AD5BEAF3EBB0}" type="slidenum">
              <a:t>&lt;#&gt;</a:t>
            </a:fld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09A4D13-3924-4F37-8DB9-57B9075FB1D2}" type="slidenum">
              <a:t>&lt;#&gt;</a:t>
            </a:fld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6B5C291-605D-4866-B1AE-8B9F1C157F65}" type="slidenum">
              <a:t>&lt;#&gt;</a:t>
            </a:fld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5C1D0B-335F-4725-B49A-66A1ACB205C3}" type="slidenum">
              <a:t>&lt;#&gt;</a:t>
            </a:fld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92029F-7359-4AB6-85AC-7AE356535C0C}" type="slidenum">
              <a:t>&lt;#&gt;</a:t>
            </a:fld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908931-B5EB-416D-9E5D-0DF65910EA91}" type="slidenum">
              <a:t>&lt;#&gt;</a:t>
            </a:fld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A11A52-CF47-44EB-9859-5478043E7EF4}" type="slidenum">
              <a:t>&lt;#&gt;</a:t>
            </a:fld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7D1092-8014-4BEF-8E30-9E1793491DF3}" type="slidenum">
              <a:t>&lt;#&gt;</a:t>
            </a:fld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84C6675-3DB2-423B-B32E-9822DA28FB8F}" type="slidenum">
              <a:t>&lt;#&gt;</a:t>
            </a:fld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EE63B94-D516-4764-82BB-81A04D6CCE4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F3BA7-F0B0-49C2-A63D-5C0550A1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598F53-8698-490D-9D62-96DFC6898820}" type="slidenum">
              <a:t>&lt;#&gt;</a:t>
            </a:fld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AF09A4-42E3-49B7-AFA9-92B7EA438D47}" type="slidenum">
              <a:t>&lt;#&gt;</a:t>
            </a:fld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4DCB77-50D1-435E-A22C-DBE3756FF940}" type="slidenum">
              <a:t>&lt;#&gt;</a:t>
            </a:fld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571CC3-B5F6-4496-9D8F-1D96C1BB7293}" type="slidenum">
              <a:t>&lt;#&gt;</a:t>
            </a:fld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F1A270-E616-4876-9AF2-B1FA92D50A2C}" type="slidenum">
              <a:t>&lt;#&gt;</a:t>
            </a:fld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8652EBC-CD6C-45CA-BA18-54CF3E9F9F39}" type="slidenum">
              <a:t>&lt;#&gt;</a:t>
            </a:fld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33741B9-B6C5-4806-BA5E-991CEFFEEF15}" type="slidenum">
              <a:t>&lt;#&gt;</a:t>
            </a:fld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F44C753-94A6-4EDE-BF56-EA846B69C045}" type="slidenum">
              <a:t>&lt;#&gt;</a:t>
            </a:fld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311B2C1-BD30-456A-BF9C-C2966EF1DABC}" type="slidenum">
              <a:t>&lt;#&gt;</a:t>
            </a:fld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2BD923B-7570-4183-96FA-1F0CF96F63C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3A6E2-4FFB-4DDA-AA8E-4638C89A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1DEC701-A48B-4FB2-A066-1956F9974C52}" type="slidenum">
              <a:t>&lt;#&gt;</a:t>
            </a:fld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E4CA039-8B28-4A4B-93D2-E79732CB587E}" type="slidenum">
              <a:t>&lt;#&gt;</a:t>
            </a:fld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A6FDA0D-8F44-43CA-9784-1C61C3AC5943}" type="slidenum">
              <a:t>&lt;#&gt;</a:t>
            </a:fld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42792AD-AFC5-47F1-99E2-6633D27023B3}" type="slidenum">
              <a:t>&lt;#&gt;</a:t>
            </a:fld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D8DF5E4-7862-4A55-8A1B-9B37FA95BC77}" type="slidenum">
              <a:t>&lt;#&gt;</a:t>
            </a:fld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073460F-9374-472D-A33F-38F1A03CF473}" type="slidenum">
              <a:t>&lt;#&gt;</a:t>
            </a:fld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3D9847D-3177-4D8D-A550-84F89631B4FB}" type="slidenum">
              <a:t>&lt;#&gt;</a:t>
            </a:fld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103C378-52A3-457D-80D3-754BFDB06F3C}" type="slidenum">
              <a:t>&lt;#&gt;</a:t>
            </a:fld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24A8CA9-393D-4938-98EB-BA28A0DF1DBD}" type="slidenum">
              <a:t>&lt;#&gt;</a:t>
            </a:fld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9036A28-E9C4-43F2-B4A6-962F02F0333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11DBC-E868-48E3-A6FF-1A1662E8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69AB299-A5B0-4956-AC83-7BBA6AA55BE5}" type="slidenum">
              <a:t>&lt;#&gt;</a:t>
            </a:fld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BE3C2A2-60A1-4824-B6E1-E8C3D6C49B21}" type="slidenum">
              <a:t>&lt;#&gt;</a:t>
            </a:fld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7C54820-5D42-4EB6-A590-1EABAE421664}" type="slidenum">
              <a:t>&lt;#&gt;</a:t>
            </a:fld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95D47B6-C9E5-4DE2-8970-5B38A5A7295C}" type="slidenum">
              <a:t>&lt;#&gt;</a:t>
            </a:fld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76A3CE9-D564-40F2-B938-E8811EB64726}" type="slidenum">
              <a:t>&lt;#&gt;</a:t>
            </a:fld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7287E2B-5636-434B-BF23-D5DC456534AF}" type="slidenum">
              <a:t>&lt;#&gt;</a:t>
            </a:fld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7984503-6E7C-444E-B50E-EEE77B166E5E}" type="slidenum">
              <a:t>&lt;#&gt;</a:t>
            </a:fld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D8AE731-9C19-4AC3-A0E1-DEBD3E0DCDD6}" type="slidenum">
              <a:t>&lt;#&gt;</a:t>
            </a:fld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9873331-2303-4ED9-86E0-03E6DE07DC65}" type="slidenum">
              <a:t>&lt;#&gt;</a:t>
            </a:fld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DCF4F6-0E07-426D-9A4F-9D34DDC5BE1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4C7CE-6932-4477-9677-6B8A5B18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BD5308-6DDD-4E0F-970E-B9FFECF4B8DE}" type="slidenum">
              <a:t>&lt;#&gt;</a:t>
            </a:fld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8427A8-F848-46C1-AC7E-5A9F326263B4}" type="slidenum">
              <a:t>&lt;#&gt;</a:t>
            </a:fld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052A98A-EF2F-45A7-BFE6-5B8A5AF515D5}" type="slidenum">
              <a:t>&lt;#&gt;</a:t>
            </a:fld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71B73C-FACA-4B97-81E7-08FD37C76E46}" type="slidenum">
              <a:t>&lt;#&gt;</a:t>
            </a:fld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5BEE10E-D556-4C17-A026-C4FE1FBD82CD}" type="slidenum">
              <a:t>&lt;#&gt;</a:t>
            </a:fld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67DE06-68E8-4788-8FF3-1A61FF8B41E1}" type="slidenum">
              <a:t>&lt;#&gt;</a:t>
            </a:fld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BBE266-39F2-4960-8133-1E41E1B400B5}" type="slidenum">
              <a:t>&lt;#&gt;</a:t>
            </a:fld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7CB430-FB48-4967-A294-81494BB0A255}" type="slidenum">
              <a:t>&lt;#&gt;</a:t>
            </a:fld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83F22AD-27F3-46F8-AFBA-BB86F889F1B2}" type="slidenum">
              <a:t>&lt;#&gt;</a:t>
            </a:fld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80B0DD-B275-4EE6-9E54-7F3B84A9D0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3F11-257B-4756-96D7-13C9B22FDB6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5E149-2317-4989-8E2C-5D63F6E7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14E484-622E-4B51-9108-EB3C0C1C29A4}" type="slidenum">
              <a:t>&lt;#&gt;</a:t>
            </a:fld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F1E8829-179C-4BFA-B632-C7FEAD93D09D}" type="slidenum">
              <a:t>&lt;#&gt;</a:t>
            </a:fld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586BA09-DB79-4A7F-9A62-6E9B8971D6AD}" type="slidenum">
              <a:t>&lt;#&gt;</a:t>
            </a:fld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286DCDA-D838-4028-A440-97A1BAF18536}" type="slidenum">
              <a:t>&lt;#&gt;</a:t>
            </a:fld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7FC1617-CABB-4BA7-898E-F94AF9EE0FCB}" type="slidenum">
              <a:t>&lt;#&gt;</a:t>
            </a:fld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E3A335E-93AE-4126-9801-CE30A95A9AFD}" type="slidenum">
              <a:t>&lt;#&gt;</a:t>
            </a:fld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EA927C8-6467-4AF6-B545-602AF110F87B}" type="slidenum">
              <a:t>&lt;#&gt;</a:t>
            </a:fld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2C2F06C-6FF0-4F01-88B1-B6C092764FEE}" type="slidenum">
              <a:t>&lt;#&gt;</a:t>
            </a:fld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B1C7230-3320-4BDF-9066-10C231FA318F}" type="slidenum">
              <a:t>&lt;#&gt;</a:t>
            </a:fld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EB940BF-ED65-4A94-BF53-83285BD26E6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D5C62-83EB-4583-971C-BA19692C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0736970-115F-444B-8A20-99D6AD0AAAA0}" type="slidenum">
              <a:t>&lt;#&gt;</a:t>
            </a:fld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01F10DD-D566-4AB5-9437-83B69C4AEFB3}" type="slidenum">
              <a:t>&lt;#&gt;</a:t>
            </a:fld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45E2AB0-E10B-4CB6-930A-49070071FDEC}" type="slidenum">
              <a:t>&lt;#&gt;</a:t>
            </a:fld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3DEBD7F-2350-48A4-B340-B915A639EA87}" type="slidenum">
              <a:t>&lt;#&gt;</a:t>
            </a:fld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D8AA896-D6D8-4E5B-BC22-3F7165135837}" type="slidenum">
              <a:t>&lt;#&gt;</a:t>
            </a:fld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D660F88-7B62-4991-85E0-417528414DDF}" type="slidenum">
              <a:t>&lt;#&gt;</a:t>
            </a:fld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1160C50-B9A7-4B5B-8F9A-F66BC3BAAD93}" type="slidenum">
              <a:t>&lt;#&gt;</a:t>
            </a:fld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83ACAF0-A42F-4F05-8068-733F9A07A386}" type="slidenum">
              <a:t>&lt;#&gt;</a:t>
            </a:fld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E1D4638-9AE4-4738-8D7F-8FA6AC415507}" type="slidenum">
              <a:t>&lt;#&gt;</a:t>
            </a:fld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0431D7D-FCE8-4355-ACD4-638C607B4D7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94B88-672E-4AEA-B869-4AC960D3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FE0D62F-F8E6-44B1-948B-4B8324102EE5}" type="slidenum">
              <a:t>&lt;#&gt;</a:t>
            </a:fld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6BD8BEA-139A-4BA5-A89A-E33CA49995D6}" type="slidenum">
              <a:t>&lt;#&gt;</a:t>
            </a:fld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38FDA55-502D-48CD-99F8-E2FA322ED9F1}" type="slidenum">
              <a:t>&lt;#&gt;</a:t>
            </a:fld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9F36FF0-BF50-4675-A42A-73E614F45B2F}" type="slidenum">
              <a:t>&lt;#&gt;</a:t>
            </a:fld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853AF84-45D2-40FA-84B8-97403F0C59E4}" type="slidenum">
              <a:t>&lt;#&gt;</a:t>
            </a:fld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A7049A-32A4-4191-B810-09106731DB45}" type="slidenum">
              <a:t>&lt;#&gt;</a:t>
            </a:fld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133080-91FC-452E-B3AB-0A362D89F9D1}" type="slidenum">
              <a:t>&lt;#&gt;</a:t>
            </a:fld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EF8FB3-D3A9-4B49-9A8C-E8FAF761884F}" type="slidenum">
              <a:t>&lt;#&gt;</a:t>
            </a:fld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B0E9FD-E37D-4159-BBBB-69A45541821D}" type="slidenum">
              <a:t>&lt;#&gt;</a:t>
            </a:fld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5832CE-AD5E-43AF-9AE2-7022BA880EC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43163-FCA0-4D85-90C3-C98EE40B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EB60E2-0E2F-40E3-8C80-DFDCC47EEC25}" type="slidenum">
              <a:t>&lt;#&gt;</a:t>
            </a:fld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74CF2F5-C047-454B-B37A-8AF80DC79392}" type="slidenum">
              <a:t>&lt;#&gt;</a:t>
            </a:fld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49D8C1-7B25-4AB7-9AD1-AB9FDE825665}" type="slidenum">
              <a:t>&lt;#&gt;</a:t>
            </a:fld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3F0339-7D6D-4996-AEFD-09367245662E}" type="slidenum">
              <a:t>&lt;#&gt;</a:t>
            </a:fld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DA9D15-92B8-468C-A735-EEE6F3429DEC}" type="slidenum">
              <a:t>&lt;#&gt;</a:t>
            </a:fld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B11F06-5A2E-4285-B14C-5BFB1F00CE74}" type="slidenum">
              <a:t>&lt;#&gt;</a:t>
            </a:fld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A1D2259-25B2-429A-9797-BBD7D32EDF9C}" type="slidenum">
              <a:t>&lt;#&gt;</a:t>
            </a:fld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97E7686-509D-4B46-BF89-43F2A1D978AB}" type="slidenum">
              <a:t>&lt;#&gt;</a:t>
            </a:fld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19FA208-FD82-46D4-811A-090309FB1D62}" type="slidenum">
              <a:t>&lt;#&gt;</a:t>
            </a:fld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6DBA6A6-E15B-4075-A367-CFA570B24BF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70537-8131-43E6-BE2D-2C1737C0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657E7FA-149C-4BD1-A9DB-8C811EAD2772}" type="slidenum">
              <a:t>&lt;#&gt;</a:t>
            </a:fld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0270243-CF2E-437E-906F-C7FEA7FD0520}" type="slidenum">
              <a:t>&lt;#&gt;</a:t>
            </a:fld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EA48ECF-D69B-408B-9716-93AEE0DC25F6}" type="slidenum">
              <a:t>&lt;#&gt;</a:t>
            </a:fld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3FFBE1B-60A3-4F03-82E5-FA974A9D8C0B}" type="slidenum">
              <a:t>&lt;#&gt;</a:t>
            </a:fld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FE18603-A6FB-4799-B1EE-E339BB37A2EE}" type="slidenum">
              <a:t>&lt;#&gt;</a:t>
            </a:fld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5E4F80A-603B-4001-85C7-5D7039D98DB3}" type="slidenum">
              <a:t>&lt;#&gt;</a:t>
            </a:fld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64141B6-B38B-40E4-93A6-5559336B8E8A}" type="slidenum">
              <a:t>&lt;#&gt;</a:t>
            </a:fld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0DEE022-56D7-4E55-A924-BD086C29B550}" type="slidenum">
              <a:t>&lt;#&gt;</a:t>
            </a:fld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6789EB9-9143-4847-A391-1B40632A6AD6}" type="slidenum">
              <a:t>&lt;#&gt;</a:t>
            </a:fld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A3587D2-C26F-425F-B6BE-AC13702B589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DD7BC-DD7A-4CCC-81F1-E2873D42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DD90CF7-1728-4EBD-9213-CAA606A343A9}" type="slidenum">
              <a:t>&lt;#&gt;</a:t>
            </a:fld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B6CB657-E4F2-4031-82D4-420270E5B13B}" type="slidenum">
              <a:t>&lt;#&gt;</a:t>
            </a:fld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46716CC-AE3E-4B93-89F2-553A975782F6}" type="slidenum">
              <a:t>&lt;#&gt;</a:t>
            </a:fld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F84E793-3FCA-4EAE-9658-292654A5414A}" type="slidenum">
              <a:t>&lt;#&gt;</a:t>
            </a:fld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B5E1F30-9580-4237-B629-0DD9F71F69F6}" type="slidenum">
              <a:t>&lt;#&gt;</a:t>
            </a:fld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D02F72C-E63C-4FC0-80D5-8D9FBB253FFB}" type="slidenum">
              <a:t>&lt;#&gt;</a:t>
            </a:fld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7B714C7-1E96-4AEB-9C12-33E3098EFBD7}" type="slidenum">
              <a:t>&lt;#&gt;</a:t>
            </a:fld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7FB9A67-A190-408F-8B86-651998E92503}" type="slidenum">
              <a:t>&lt;#&gt;</a:t>
            </a:fld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45611FB-C4FF-459A-B39C-690ED20BD4A6}" type="slidenum">
              <a:t>&lt;#&gt;</a:t>
            </a:fld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9473109-3D8E-441F-9B54-D12383A8A5E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E130C-98FB-4612-9CA6-65AAD0B188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0945479-FCD4-4C32-A833-FE74336FA047}" type="slidenum">
              <a:t>&lt;#&gt;</a:t>
            </a:fld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E1CA9BB-C3DC-44AD-AB47-76EBC5D890A1}" type="slidenum">
              <a:t>&lt;#&gt;</a:t>
            </a:fld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31CE8F-354D-41C4-8D69-2C066BED91F8}" type="slidenum">
              <a:t>&lt;#&gt;</a:t>
            </a:fld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17F991F-50DC-44BA-A71A-28D4BE388C24}" type="slidenum">
              <a:t>&lt;#&gt;</a:t>
            </a:fld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E29C82-B8A8-4F86-8648-02D3F6C926DF}" type="slidenum">
              <a:t>&lt;#&gt;</a:t>
            </a:fld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E219DB-7BA1-45FA-830C-12C043E7B7B3}" type="slidenum">
              <a:t>&lt;#&gt;</a:t>
            </a:fld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08EBC5-5A5B-416B-B63F-54197EAFF674}" type="slidenum">
              <a:t>&lt;#&gt;</a:t>
            </a:fld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367452-2274-4F0F-9F3C-200C6DC3D078}" type="slidenum">
              <a:t>&lt;#&gt;</a:t>
            </a:fld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B90B3B-AAC4-4A1D-9E70-87BBEE6DEB0E}" type="slidenum">
              <a:t>&lt;#&gt;</a:t>
            </a:fld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86FD40F-041C-4A07-888C-87E805D2735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896F-40D8-453D-9538-93A144241048}" type="slidenum">
              <a:t>&lt;#&gt;</a:t>
            </a:fld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4264B0-9FF7-458D-A8A4-0FE719D740FC}" type="slidenum">
              <a:t>&lt;#&gt;</a:t>
            </a:fld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8152E3-9DAA-4C06-B937-5C287B2D1AA2}" type="slidenum">
              <a:t>&lt;#&gt;</a:t>
            </a:fld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5B4AF7-BCDC-47E6-B333-76F86033D5AB}" type="slidenum">
              <a:t>&lt;#&gt;</a:t>
            </a:fld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6144B11-1027-4F1E-97EC-C55A25EEB443}" type="slidenum">
              <a:t>&lt;#&gt;</a:t>
            </a:fld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EFE4DEA-E2B3-48B2-BD0F-0990EC0C28A3}" type="slidenum">
              <a:t>&lt;#&gt;</a:t>
            </a:fld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2B0AD47-42F3-4DDD-B409-724781BE5245}" type="slidenum">
              <a:t>&lt;#&gt;</a:t>
            </a:fld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192A231-54EF-4215-8E12-517E65890714}" type="slidenum">
              <a:t>&lt;#&gt;</a:t>
            </a:fld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E94B927-EA7C-40DC-83D9-A93C9713EA7E}" type="slidenum">
              <a:t>&lt;#&gt;</a:t>
            </a:fld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CC14219-3CCC-485A-9A9E-C24F43DF36D9}" type="slidenum">
              <a:t>&lt;#&gt;</a:t>
            </a:fld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B423226-D3C9-48F7-93B3-8803C45D058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71E9-0AF7-4D51-BA86-67C166CA7346}" type="slidenum">
              <a:t>&lt;#&gt;</a:t>
            </a:fld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D7C5059-B0F9-4D0D-9127-7BFA3C23A3F3}" type="slidenum">
              <a:t>&lt;#&gt;</a:t>
            </a:fld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36AFB0E-7B48-436B-BB8B-6E16701A01DF}" type="slidenum">
              <a:t>&lt;#&gt;</a:t>
            </a:fld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8C973D0-0783-41B0-B590-35F4772AEC83}" type="slidenum">
              <a:t>&lt;#&gt;</a:t>
            </a:fld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4DFBD7D-920E-49AD-9344-0C0C31235096}" type="slidenum">
              <a:t>&lt;#&gt;</a:t>
            </a:fld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E2BBA49-16BB-4898-BA27-9620DFF95D60}" type="slidenum">
              <a:t>&lt;#&gt;</a:t>
            </a:fld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73E219E-05A6-4548-8822-32F2B0691E76}" type="slidenum">
              <a:t>&lt;#&gt;</a:t>
            </a:fld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6F24699-EB6C-4264-9051-5D8B75BB1FC5}" type="slidenum">
              <a:t>&lt;#&gt;</a:t>
            </a:fld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A966E28-B9CA-44D9-8C3B-1521D70C1ED5}" type="slidenum">
              <a:t>&lt;#&gt;</a:t>
            </a:fld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E554312-8B23-4A40-8517-276760DE12FF}" type="slidenum">
              <a:t>&lt;#&gt;</a:t>
            </a:fld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17D3037-0134-4105-9815-78BAF84BD2B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A2F6C-970F-4CBF-A160-99C477F95D84}" type="slidenum">
              <a:t>&lt;#&gt;</a:t>
            </a:fld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78C1169-0C76-4A47-AFB2-AD18D27471FD}" type="slidenum">
              <a:t>&lt;#&gt;</a:t>
            </a:fld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CF86DB5-1DF9-434B-9223-68F107B532A1}" type="slidenum">
              <a:t>&lt;#&gt;</a:t>
            </a:fld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66B259B-DC75-4A55-8A98-F82EDA171666}" type="slidenum">
              <a:t>&lt;#&gt;</a:t>
            </a:fld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F1407CD-FD80-46EA-999E-06A8E58CE955}" type="slidenum">
              <a:t>&lt;#&gt;</a:t>
            </a:fld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E41F415-AC3F-430B-AF61-259FE68C02DE}" type="slidenum">
              <a:t>&lt;#&gt;</a:t>
            </a:fld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276849C-1821-4A26-BEAE-ABD973F9ADB6}" type="slidenum">
              <a:t>&lt;#&gt;</a:t>
            </a:fld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30FCB4D-2C34-4B35-9D00-B7A350E47F68}" type="slidenum">
              <a:t>&lt;#&gt;</a:t>
            </a:fld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58A417E-6A54-40A5-9898-B85657356F57}" type="slidenum">
              <a:t>&lt;#&gt;</a:t>
            </a:fld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E7CD86-A759-4B97-A7CA-58DBD2897371}" type="slidenum">
              <a:t>&lt;#&gt;</a:t>
            </a:fld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6CE56C-908E-4139-A5D7-F55FC1296A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2F05-4B92-4898-9BE3-34B0C5637F6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66D2-0017-4A22-881D-118581F464B2}" type="slidenum">
              <a:t>&lt;#&gt;</a:t>
            </a:fld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92F54F-409B-47E9-84A8-144747FC0C3D}" type="slidenum">
              <a:t>&lt;#&gt;</a:t>
            </a:fld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968A96-EFD6-4238-B192-D46166E8113D}" type="slidenum">
              <a:t>&lt;#&gt;</a:t>
            </a:fld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1C7B46-587E-4467-949F-A83299A2B6C4}" type="slidenum">
              <a:t>&lt;#&gt;</a:t>
            </a:fld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76B3AA-0B51-4A87-B89B-4D463E09508D}" type="slidenum">
              <a:t>&lt;#&gt;</a:t>
            </a:fld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A47E5B-7521-4EB9-A188-82B5893C2DEC}" type="slidenum">
              <a:t>&lt;#&gt;</a:t>
            </a:fld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0A48524-B9C3-4273-AE64-499D5BF59F6A}" type="slidenum">
              <a:t>&lt;#&gt;</a:t>
            </a:fld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38AE23D-954F-46B2-A9DD-7E304A2C8763}" type="slidenum">
              <a:t>&lt;#&gt;</a:t>
            </a:fld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6F520B-B749-4C0F-B8EF-F85D7E444450}" type="slidenum">
              <a:t>&lt;#&gt;</a:t>
            </a:fld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A0D93B-F96B-4F19-A626-E4234E11933D}" type="slidenum">
              <a:t>&lt;#&gt;</a:t>
            </a:fld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2000E17-36CC-4617-B03B-2595A4F0013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27E6F-422C-4E65-8E9F-72B62F7AB19D}" type="slidenum">
              <a:t>&lt;#&gt;</a:t>
            </a:fld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75819FF-764E-4B0A-8437-12BE4B7CFDF6}" type="slidenum">
              <a:t>&lt;#&gt;</a:t>
            </a:fld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61842C0-4FAB-4F91-923E-59936686B6E9}" type="slidenum">
              <a:t>&lt;#&gt;</a:t>
            </a:fld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92572A0-0923-4847-B030-EDCAC2CE3286}" type="slidenum">
              <a:t>&lt;#&gt;</a:t>
            </a:fld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1E0B6D7-80EA-4D75-9FF3-D402CF08973C}" type="slidenum">
              <a:t>&lt;#&gt;</a:t>
            </a:fld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0E5FE78-0033-4A7A-ABCD-4DF3ED94DCE0}" type="slidenum">
              <a:t>&lt;#&gt;</a:t>
            </a:fld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B1A58A3-4469-4AF8-8807-38E7B15EFD55}" type="slidenum">
              <a:t>&lt;#&gt;</a:t>
            </a:fld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95A9F10-E10F-4CCA-9D78-ADDDA010EE62}" type="slidenum">
              <a:t>&lt;#&gt;</a:t>
            </a:fld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A1894EE-6E18-44F6-86CC-CEB8BF9C3B20}" type="slidenum">
              <a:t>&lt;#&gt;</a:t>
            </a:fld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FC3737C-6EDE-4A80-8DDD-E759E781151D}" type="slidenum">
              <a:t>&lt;#&gt;</a:t>
            </a:fld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6A5CAD2-4DAC-4853-9E43-458EA6E18D7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B1C1-8064-4877-8D9D-2AA16668F112}" type="slidenum">
              <a:t>&lt;#&gt;</a:t>
            </a:fld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A390402-8BFF-4544-9303-0B671ACFB2DE}" type="slidenum">
              <a:t>&lt;#&gt;</a:t>
            </a:fld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6FEAA11-3E4E-44ED-9873-959A616513AB}" type="slidenum">
              <a:t>&lt;#&gt;</a:t>
            </a:fld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3816520-DDF1-4925-90C3-0E974374774E}" type="slidenum">
              <a:t>&lt;#&gt;</a:t>
            </a:fld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C925244-3D5E-4B05-83D1-68BC3132296C}" type="slidenum">
              <a:t>&lt;#&gt;</a:t>
            </a:fld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C5E3960-7E3A-40A6-8462-D7F89E75B391}" type="slidenum">
              <a:t>&lt;#&gt;</a:t>
            </a:fld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5063E99-D2F6-4015-9287-5BC119A5ABA6}" type="slidenum">
              <a:t>&lt;#&gt;</a:t>
            </a:fld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1B01343-E47D-420C-8E04-6327FF2CF5DD}" type="slidenum">
              <a:t>&lt;#&gt;</a:t>
            </a:fld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D605BA5-C627-437E-B6A0-2BF9527FC23A}" type="slidenum">
              <a:t>&lt;#&gt;</a:t>
            </a:fld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B78F0A7-0E8E-42A7-BD3C-2396F9536892}" type="slidenum">
              <a:t>&lt;#&gt;</a:t>
            </a:fld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14710A7-06B4-467C-8DB4-0A73F1066D8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1606-471A-4FB5-A96D-81064D464A5E}" type="slidenum">
              <a:t>&lt;#&gt;</a:t>
            </a:fld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8B00D45-329C-4E79-81F2-57B8AA37C305}" type="slidenum">
              <a:t>&lt;#&gt;</a:t>
            </a:fld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B05FDBE-0993-4083-8418-037664F9226B}" type="slidenum">
              <a:t>&lt;#&gt;</a:t>
            </a:fld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B62456C-37F1-405E-BFB9-8C8CF041BD16}" type="slidenum">
              <a:t>&lt;#&gt;</a:t>
            </a:fld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90565E-A9C9-401B-AF2D-E62324F7179D}" type="slidenum">
              <a:t>&lt;#&gt;</a:t>
            </a:fld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6F91E7-01DB-4E80-99AF-FF83D8CC4026}" type="slidenum">
              <a:t>&lt;#&gt;</a:t>
            </a:fld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028E18-4273-4E8F-BCA9-BB0F09063C44}" type="slidenum">
              <a:t>&lt;#&gt;</a:t>
            </a:fld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5A0581-F717-4C20-BF15-50F4CE1FB3A1}" type="slidenum">
              <a:t>&lt;#&gt;</a:t>
            </a:fld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ECEA1CA-CA19-4C24-8240-E9EA2E675692}" type="slidenum">
              <a:t>&lt;#&gt;</a:t>
            </a:fld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9ABEEA-047B-40DD-B238-4CCAA12E0B59}" type="slidenum">
              <a:t>&lt;#&gt;</a:t>
            </a:fld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3895EA-15D7-48E9-A746-143F92E343E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05F7-58AA-49CE-A165-6E69A452C3C8}" type="slidenum">
              <a:t>&lt;#&gt;</a:t>
            </a:fld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5E2410E-E35E-4458-BCC0-A1C16FC370A6}" type="slidenum">
              <a:t>&lt;#&gt;</a:t>
            </a:fld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5F6F14E-1254-4025-93EE-B48DAD610CFF}" type="slidenum">
              <a:t>&lt;#&gt;</a:t>
            </a:fld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69A2D0-4180-4CDC-8186-91B4433F03A5}" type="slidenum">
              <a:t>&lt;#&gt;</a:t>
            </a:fld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4FA957-7D2C-4259-A80F-F7BBB9254FDF}" type="slidenum">
              <a:t>&lt;#&gt;</a:t>
            </a:fld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20D71AA-34E9-4294-8F27-E6C93420FBFA}" type="slidenum">
              <a:t>&lt;#&gt;</a:t>
            </a:fld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FE216C9-CFFB-49D5-A90E-1E9D2CB9B5E3}" type="slidenum">
              <a:t>&lt;#&gt;</a:t>
            </a:fld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27E1452-3133-4C8F-9487-603BDAB69083}" type="slidenum">
              <a:t>&lt;#&gt;</a:t>
            </a:fld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6ACA681-8011-4932-B3B1-29F3FCCD376B}" type="slidenum">
              <a:t>&lt;#&gt;</a:t>
            </a:fld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6D53249-9AFD-47CC-A470-50271DFB54D5}" type="slidenum">
              <a:t>&lt;#&gt;</a:t>
            </a:fld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BD2D14D-BAE4-4C45-A977-03B0A65DF73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85894-9B22-44A5-A0AF-78EFF9D39251}" type="slidenum">
              <a:t>&lt;#&gt;</a:t>
            </a:fld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1559782-001F-46E2-9E52-0D12856191DC}" type="slidenum">
              <a:t>&lt;#&gt;</a:t>
            </a:fld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C104B47-0A8D-4C16-B812-3917C4ACCC62}" type="slidenum">
              <a:t>&lt;#&gt;</a:t>
            </a:fld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CCFA74A-33FE-4050-ACE6-79A9EBAAE8A4}" type="slidenum">
              <a:t>&lt;#&gt;</a:t>
            </a:fld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0A46FC2-2F46-43C0-8A5C-C54D2D00CA5E}" type="slidenum">
              <a:t>&lt;#&gt;</a:t>
            </a:fld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71D153F-8CE4-493F-93D1-3AA30392154F}" type="slidenum">
              <a:t>&lt;#&gt;</a:t>
            </a:fld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779686D-1F82-4709-8666-BA5F0CF44FCB}" type="slidenum">
              <a:t>&lt;#&gt;</a:t>
            </a:fld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604A1C9-FDAB-48D3-88C3-8584B8193E9E}" type="slidenum">
              <a:t>&lt;#&gt;</a:t>
            </a:fld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E6A6F09-5B1B-48BA-84EF-B2B30461EC60}" type="slidenum">
              <a:t>&lt;#&gt;</a:t>
            </a:fld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A70E3F8-266A-4238-BD4E-D3001A26D8A6}" type="slidenum">
              <a:t>&lt;#&gt;</a:t>
            </a:fld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394181E-5792-445E-93AC-4DBDF066287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D5BA8-489B-41AC-B7DD-5D1137250816}" type="slidenum">
              <a:t>&lt;#&gt;</a:t>
            </a:fld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A03735D-8824-4C0E-9C72-0B16C7D30E9A}" type="slidenum">
              <a:t>&lt;#&gt;</a:t>
            </a:fld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568A895-09A4-4A1A-907B-99F80F0D3346}" type="slidenum">
              <a:t>&lt;#&gt;</a:t>
            </a:fld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BB735E7-E3AF-455F-BCCE-AF08E05614B1}" type="slidenum">
              <a:t>&lt;#&gt;</a:t>
            </a:fld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BCD8A21-7E17-425A-845E-4CFC566952AC}" type="slidenum">
              <a:t>&lt;#&gt;</a:t>
            </a:fld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9C6F3FB-B214-4AC3-AD29-825430F82E22}" type="slidenum">
              <a:t>&lt;#&gt;</a:t>
            </a:fld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A262A27-C619-4206-A8A8-8C14A813CFF7}" type="slidenum">
              <a:t>&lt;#&gt;</a:t>
            </a:fld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AAB8BEB-2C06-438A-A09E-52099D042945}" type="slidenum">
              <a:t>&lt;#&gt;</a:t>
            </a:fld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0F48767-2E9B-4DF9-9AD9-81DACAA9F4B8}" type="slidenum">
              <a:t>&lt;#&gt;</a:t>
            </a:fld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55A35D2-7642-4D56-A53E-67E152E3AA38}" type="slidenum">
              <a:t>&lt;#&gt;</a:t>
            </a:fld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5BFF69E-855C-4DE5-B789-2E18C2A8419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ABBBA-8B2B-4FAF-BDBF-075FD9A0974B}" type="slidenum">
              <a:t>&lt;#&gt;</a:t>
            </a:fld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9F87FC3-D7A1-440A-B9AD-711026E07A08}" type="slidenum">
              <a:t>&lt;#&gt;</a:t>
            </a:fld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A2F425C-A7F3-443E-81C3-F7224E18520A}" type="slidenum">
              <a:t>&lt;#&gt;</a:t>
            </a:fld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D47C4E5-FE86-4843-8CD9-5DBBDDDA2D2D}" type="slidenum">
              <a:t>&lt;#&gt;</a:t>
            </a:fld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715BD25-57BB-4528-8044-B415267E9156}" type="slidenum">
              <a:t>&lt;#&gt;</a:t>
            </a:fld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0D79CBD-3500-41CF-A086-1831A484C8B8}" type="slidenum">
              <a:t>&lt;#&gt;</a:t>
            </a:fld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DE58431-055C-48E9-AD60-B054127A0F41}" type="slidenum">
              <a:t>&lt;#&gt;</a:t>
            </a:fld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43DE0D-00BA-4CD5-AB5E-D7EDFF8C3E79}" type="slidenum">
              <a:t>&lt;#&gt;</a:t>
            </a:fld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788729-C67A-4A14-93FA-55CDDC8471E8}" type="slidenum">
              <a:t>&lt;#&gt;</a:t>
            </a:fld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1D0BB96-6D9D-4CC4-8E31-02E5C089B169}" type="slidenum">
              <a:t>&lt;#&gt;</a:t>
            </a:fld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0C1A70E-7DC2-4537-96CA-58DC8B38E99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B33D-1D67-494B-8A56-37E41590438E}" type="slidenum">
              <a:t>&lt;#&gt;</a:t>
            </a:fld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22C41E-CFF4-4549-99D7-1A814B108D20}" type="slidenum">
              <a:t>&lt;#&gt;</a:t>
            </a:fld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B25CDCD-F2F3-4FA5-ABF7-6378C7CA042F}" type="slidenum">
              <a:t>&lt;#&gt;</a:t>
            </a:fld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943ABD1-87F7-4415-9965-29C687A46723}" type="slidenum">
              <a:t>&lt;#&gt;</a:t>
            </a:fld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BE7A621-526C-4AAA-A327-ED1833932BBE}" type="slidenum">
              <a:t>&lt;#&gt;</a:t>
            </a:fld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56F5A4F-3461-4FFB-9747-044DD3954F71}" type="slidenum">
              <a:t>&lt;#&gt;</a:t>
            </a:fld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C662448-CA9B-4918-A4DD-C7C3447FF6C1}" type="slidenum">
              <a:t>&lt;#&gt;</a:t>
            </a:fld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6FA9DE7-2645-4138-ACF2-7433D2211930}" type="slidenum">
              <a:t>&lt;#&gt;</a:t>
            </a:fld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848580F-5DB3-4A46-B757-0602E35DB3EB}" type="slidenum">
              <a:t>&lt;#&gt;</a:t>
            </a:fld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C89B2C2-C1EA-4FD5-8456-7478F7E195C1}" type="slidenum">
              <a:t>&lt;#&gt;</a:t>
            </a:fld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EF8FCF3-5DC0-4515-AC7D-42AB779AB3A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B287F5-25CE-48D0-BEB3-E58071A1FC36}" type="slidenum">
              <a:t>&lt;#&gt;</a:t>
            </a:fld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99B08A8-1063-4EC8-8398-20F67C20EB05}" type="slidenum">
              <a:t>&lt;#&gt;</a:t>
            </a:fld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1007CE9-B262-4E02-B42A-2CA4435EA144}" type="slidenum">
              <a:t>&lt;#&gt;</a:t>
            </a:fld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DCB8A6F-1E4D-47A5-AA0E-3BC1E5E6B143}" type="slidenum">
              <a:t>&lt;#&gt;</a:t>
            </a:fld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1750009-654E-4950-A034-3A0D963F9993}" type="slidenum">
              <a:t>&lt;#&gt;</a:t>
            </a:fld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D594359-7F7D-42FD-94C1-0BCAB8F8084C}" type="slidenum">
              <a:t>&lt;#&gt;</a:t>
            </a:fld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C863BDE-A38E-4E7A-8CAA-DC439779C6FD}" type="slidenum">
              <a:t>&lt;#&gt;</a:t>
            </a:fld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F98BBB6-4C30-41E7-A6AA-EF95C5F7E9A3}" type="slidenum">
              <a:t>&lt;#&gt;</a:t>
            </a:fld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09731ED-589B-48E8-AA91-4132663F55B6}" type="slidenum">
              <a:t>&lt;#&gt;</a:t>
            </a:fld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6A2CEE3-7F0A-4BC9-A3C6-4A0D3E6AD81C}" type="slidenum">
              <a:t>&lt;#&gt;</a:t>
            </a:fld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F43789B-7A2D-45C7-987A-948383DC3B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9615-386E-495E-9590-97D81FB4DC7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0B8852-7BAC-4D41-8356-EEC8B575F814}" type="slidenum">
              <a:t>&lt;#&gt;</a:t>
            </a:fld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310B006-DFF1-4FEF-B13E-CFF87DB5EDD1}" type="slidenum">
              <a:t>&lt;#&gt;</a:t>
            </a:fld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60CB353-0413-4CF5-A2F0-45655095CC79}" type="slidenum">
              <a:t>&lt;#&gt;</a:t>
            </a:fld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DC035FA-D0A3-4A0E-BC9E-B2D31FCF507F}" type="slidenum">
              <a:t>&lt;#&gt;</a:t>
            </a:fld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C7B295F-BDBE-4ADC-B41F-F68935D5D9E7}" type="slidenum">
              <a:t>&lt;#&gt;</a:t>
            </a:fld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8D86B59-B5A9-4F25-A38B-8F30D5436ABF}" type="slidenum">
              <a:t>&lt;#&gt;</a:t>
            </a:fld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3E5502-44FE-4B85-8DEE-056D02578522}" type="slidenum">
              <a:t>&lt;#&gt;</a:t>
            </a:fld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56A8A9-EE2E-4D6C-8015-CF0D77148AB0}" type="slidenum">
              <a:t>&lt;#&gt;</a:t>
            </a:fld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2D3F00-5533-463B-AB33-CDE150F54D8B}" type="slidenum">
              <a:t>&lt;#&gt;</a:t>
            </a:fld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D6F351-B3CE-4457-8C42-BE8CAB38960F}" type="slidenum">
              <a:t>&lt;#&gt;</a:t>
            </a:fld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42F825-1EAD-403D-AEF0-031D6008259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F0C99-7445-4F0A-BF64-9674A852228E}" type="slidenum">
              <a:t>&lt;#&gt;</a:t>
            </a:fld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415397-B147-43C1-BF9F-D0768FAA4BBD}" type="slidenum">
              <a:t>&lt;#&gt;</a:t>
            </a:fld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D3A36D2-01FC-4947-B1A3-84FB0DA2F796}" type="slidenum">
              <a:t>&lt;#&gt;</a:t>
            </a:fld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D681A2-36EE-4A9F-A085-5B65414E5115}" type="slidenum">
              <a:t>&lt;#&gt;</a:t>
            </a:fld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59F1D4-01AB-43C3-BC94-B3432B029693}" type="slidenum">
              <a:t>&lt;#&gt;</a:t>
            </a:fld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4412E4-12DA-4CF6-866C-ECB7E1F8D5AA}" type="slidenum">
              <a:t>&lt;#&gt;</a:t>
            </a:fld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77FBFA6-936D-401B-B062-35F326B79064}" type="slidenum">
              <a:t>&lt;#&gt;</a:t>
            </a:fld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B51D3D1-8586-426E-B61F-C8BAE89DBD43}" type="slidenum">
              <a:t>&lt;#&gt;</a:t>
            </a:fld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14D9582-FA1F-4CA2-8C45-9150F7F101F8}" type="slidenum">
              <a:t>&lt;#&gt;</a:t>
            </a:fld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831B1BC-4062-42EE-909A-B8CAF31B2476}" type="slidenum">
              <a:t>&lt;#&gt;</a:t>
            </a:fld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B004BF6-66F6-43F4-9719-40FFA356C25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8F64F-6540-4EEF-8F13-23E174791F46}" type="slidenum">
              <a:t>&lt;#&gt;</a:t>
            </a:fld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4912C50-7140-4E6B-920E-80BC6481BADD}" type="slidenum">
              <a:t>&lt;#&gt;</a:t>
            </a:fld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525D03E-C182-4712-9874-79BA93E6CDB7}" type="slidenum">
              <a:t>&lt;#&gt;</a:t>
            </a:fld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2FC77A6-215C-46D4-BCD6-B136F4EDAED2}" type="slidenum">
              <a:t>&lt;#&gt;</a:t>
            </a:fld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756A96A-D1D0-46C2-969A-8CA9A00B2FF9}" type="slidenum">
              <a:t>&lt;#&gt;</a:t>
            </a:fld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A6C8ADA-7BA2-4985-ADC9-D2861F08D414}" type="slidenum">
              <a:t>&lt;#&gt;</a:t>
            </a:fld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45E6DB5-9574-4EEF-9D32-EA89A0285BA2}" type="slidenum">
              <a:t>&lt;#&gt;</a:t>
            </a:fld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BFD07EC-6B76-46FE-868A-49FBB110F696}" type="slidenum">
              <a:t>&lt;#&gt;</a:t>
            </a:fld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90630FF-55C9-48FD-906D-AB5718CA068A}" type="slidenum">
              <a:t>&lt;#&gt;</a:t>
            </a:fld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2CF72DF-AED4-489C-B1DD-0857DE0D2426}" type="slidenum">
              <a:t>&lt;#&gt;</a:t>
            </a:fld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4409374-6FE9-4CD9-B35F-9991ECF620F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E0AC3C-7411-41E3-BFC3-4B859BBB71F5}" type="slidenum">
              <a:t>&lt;#&gt;</a:t>
            </a:fld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4DC6EBB-2FAB-4CAE-B7B9-1ECF3750B41A}" type="slidenum">
              <a:t>&lt;#&gt;</a:t>
            </a:fld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385BD24-510A-46E0-8159-4683FF0D2ACA}" type="slidenum">
              <a:t>&lt;#&gt;</a:t>
            </a:fld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8C37231-B4B3-4342-AD62-3E4C9188C98C}" type="slidenum">
              <a:t>&lt;#&gt;</a:t>
            </a:fld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C2DFC4A-AA98-4698-A0F5-222BD802D726}" type="slidenum">
              <a:t>&lt;#&gt;</a:t>
            </a:fld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797E673-600A-40DC-A2AD-EAC888921ED7}" type="slidenum">
              <a:t>&lt;#&gt;</a:t>
            </a:fld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1B404CD-E614-41C7-A24F-FBBE500E98B7}" type="slidenum">
              <a:t>&lt;#&gt;</a:t>
            </a:fld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9BD93FB-8197-4EBF-B1A9-CAE6804EC09F}" type="slidenum">
              <a:t>&lt;#&gt;</a:t>
            </a:fld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574C0AE-EFA9-4D0F-B2F2-40F1FB0C9336}" type="slidenum">
              <a:t>&lt;#&gt;</a:t>
            </a:fld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5942CA5-0CEB-41F5-AC75-9D983656185B}" type="slidenum">
              <a:t>&lt;#&gt;</a:t>
            </a:fld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51168C0-A444-4DF1-9411-AC026D826B3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7C0B82-B116-4DE9-8D03-ED7153AA9CE3}" type="slidenum">
              <a:t>&lt;#&gt;</a:t>
            </a:fld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D2BE754-86CB-4A54-82DB-9B1C81F50681}" type="slidenum">
              <a:t>&lt;#&gt;</a:t>
            </a:fld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8D3CE2C-D308-452C-A472-BF3B9F1710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E06E2A8-0E44-4A02-9F2D-F77251E0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718B622-4F76-4934-A28B-5A6F6DE3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72568FE-7CE2-4DE4-A8BF-3BE9E3BE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A935597-C258-40F4-903C-EC3EC892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0F51FCB-99B3-4B65-B409-AE829E7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9E08312-DA53-4A8E-98A7-2C46976A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E5AA3DB-4AB8-4E09-A6BB-D2F0F40C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5C533E8-3E96-4917-8362-4A79F29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3765D5-A8EE-4AD2-A01A-2E87D0277F54}" type="slidenum">
              <a:t>&lt;#&gt;</a:t>
            </a:fld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B89CC3F-6C0E-4840-9302-3ADDFB0F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8DF4FC6-67C6-49CD-B51E-0914C650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535EE9E-AC09-49E1-9BF9-3FD67A3879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8567C0-C1F7-40E2-B5CC-9D4FD5B69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7006D99-F8C1-4729-887F-435A2298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6AA754-D904-4A18-9D49-49368F57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9858C12-05CD-4644-985B-0C3B18B8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604A08B-D474-457D-B70A-314973AC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683A5B-E165-4971-ADC8-E4877FE4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4293B1A-5F0A-4C21-B32F-470B19B3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B9D52B-E21C-41EA-8265-CB605C2CFB4F}" type="slidenum">
              <a:t>&lt;#&gt;</a:t>
            </a:fld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19C4250-CC70-4E61-B1ED-DF5A0968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81DD8D-0782-4564-9617-C74390C9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489786B-B245-47B0-ABD4-E07D2A06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8F2C40-FD08-47F7-92F8-423DECEF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8341C23-3F8F-481A-83AE-9464607C9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0770511-76F5-4169-BEDF-6CFC828E6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B28D897-BBCA-44BC-883D-3CF89745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FF1CDC9-8F37-4FCC-8F0C-268B8F20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4715A41-C79E-46BD-A42C-F20129ED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5736BCD-4EF8-49D6-9792-DF3987DB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9C75F-D538-428E-A529-66261C1AD65E}" type="slidenum">
              <a:t>&lt;#&gt;</a:t>
            </a:fld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038C4EE-37B6-4791-A55C-363F10C5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EC2A2C4-D69C-404B-8A13-B0290F91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0E825F8-C209-4DD2-AEA3-F238AFC1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701ED30-C058-425A-869C-D91F1FBB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8EC69F8-633F-4903-A1A4-8AB9DC12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E81DA49-1B09-4CD5-9838-3F1DC435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D93A7E8-4BEB-4EFA-8D73-F9D93873B3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772197C-0BB0-495A-8B4D-23ED098079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BAD6682-F131-4970-A73C-7DDC122C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E30037F-3985-42BA-926C-74B075F5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D66B0-024B-4F78-9BBF-38257F4F6E54}" type="slidenum">
              <a:t>&lt;#&gt;</a:t>
            </a:fld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8167587-A35F-4FE3-B967-3B98A9BF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1F2F507-BB1A-4EAC-86DC-B86DE523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C740481-25C2-4B7B-BF0C-74ADB62E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DE130BD-310F-4068-B821-9460D02A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D44BD15-4F12-4EFD-BBB8-1A8E8150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DCE9B48-6454-4968-BBA8-6D699323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61D8767-6E39-4CDD-A818-882F8297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7ED2917-E2CA-4E84-9B3A-E39DF19E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9915891-E84E-4D9B-8C51-7F86F7A54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85DC32F-5ABD-47D2-9B86-E9FA0C5266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1A683F-C914-4014-9B39-5A8F47DAFB9A}" type="slidenum">
              <a:t>&lt;#&gt;</a:t>
            </a:fld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16F7777-A644-496E-8C1C-6655B05C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19EB98D-6E74-4448-B03D-699545BA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A7FD706-D008-402F-9F4D-277FE658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EBF1505-3223-4360-9C4A-4AA749CD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A4F535E-13A1-404E-9576-55B419F7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1023708-41F7-40D0-A5F9-39041DDD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9E30DE5-EBFE-4E36-A3C1-BC13791F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5807CE7-880E-4C6B-94FE-B5F8AD38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2340EAF-5462-4219-97C9-51DAD1E8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34DF89C-0987-4D5F-9CD1-A7F0F996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EE8D-86C2-4CDD-B3D1-41F1B2B226C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73608A-04E6-46C9-8C0F-5EB8F5090282}" type="slidenum">
              <a:t>&lt;#&gt;</a:t>
            </a:fld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C65C98C-6882-4EF2-93F3-800116B95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F473DA1-9FE8-4900-8C66-F321103F79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42556C1-D2E8-4703-95D2-2ACF4CB8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B54B6D51-7521-4A28-A361-29D8A5D7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6BCD73C-EEFC-44F8-A1AA-E8C6F9D7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433AB8B-2F9C-4DBE-927E-DD7A7590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2F52A18B-F104-418B-A35B-5CFD424D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A963538-E2E1-4154-BC50-0A906E7F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4680F3C-CFD8-4781-9801-A5A94EC0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C83F863-4426-4980-824D-BA4D0A3A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57379-1591-4D86-80D8-B0B15FB58F9C}" type="slidenum">
              <a:t>&lt;#&gt;</a:t>
            </a:fld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7EF49AC4-9361-4F08-9E8B-C1C4371C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3AFA315-3F89-49E8-BA1A-6412F9C0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2E04B9F-E3F9-4D17-8E6E-74F24415F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4A601B7-2C2D-421F-B1B9-7897E0D4E4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EA537F5-295A-4AAF-A754-81CD5FAA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646885E-5FFB-4DCF-91BC-3CED1DEC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6123217-42F2-409E-92F1-A8E3B187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17AB215-B18E-4D3B-B4AA-66C72D62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8AC0137-5B95-4561-9CCA-F7290A46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B38F9D2-8110-4D23-81A3-41C6C6A6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44522-7142-4FDE-BC8C-A0994DE9718C}" type="slidenum">
              <a:t>&lt;#&gt;</a:t>
            </a:fld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32E4EC5-2062-4422-B36A-3D796601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87CA25F-C78D-4AF4-ADA0-4221EC66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7C03909-B20A-490B-83AC-3ABFCCA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2BB3146-2CAD-4C01-8F01-B2AB8BE4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368A7CC-5A19-4699-B58D-FB2DF35FCF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4D26A32-6F12-4F2E-B6A2-36157ABC8A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A5D06E-9A21-4187-B04D-DF47E9E6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B5A5C35-5D1F-4BE4-8F58-659FD3AF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06B282F-0404-4576-9EC4-452441F4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36207D4-4D4E-41D7-A5FA-F2E62E0A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C5A66-8794-4CE8-9FBD-6802A2BEB080}" type="slidenum">
              <a:t>&lt;#&gt;</a:t>
            </a:fld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41AF957-51CD-4828-8FBE-19AEF83B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9D8662-C6B8-4A6B-848B-8C56EBC8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8DB8B64-FD53-4023-8DBF-062989F1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5533306-ED50-4671-992E-83732C38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D7E71E5-5A4C-48BB-B6E1-3F95BFF4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FF5F4E-95E8-44A7-90B7-C5C70DA5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9488E01-056F-424E-B32C-92F6323A76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CD97D95-E244-4C63-8E0F-75FF546F1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D20E808-5C69-4AD3-93F0-730CAB69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DB48B2A-8C8A-4A33-907A-D909B13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EC3EA-193D-4969-9F43-4CA5A1D9301D}" type="slidenum">
              <a:t>&lt;#&gt;</a:t>
            </a:fld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1E21B51-626E-4FE8-B9AB-25A795B8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3433BA4-DDCE-4E65-A805-25C9688A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D28CCAC-DB92-47B5-916F-0D5FCE7A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6490AB9-481D-475B-AC09-255EE5F0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80608D9-082B-4465-B0EE-499F0713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D091EAB-7C3D-4AA9-8D1C-90620158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5B848B9-0981-4D34-B2E4-5D9B63F7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CD36E46-8F94-4F6C-9EFF-974B65A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AC1AD99-AC88-49D3-9C35-C32DA8C9CF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176BC4E-EBCC-4896-BFE4-D61AD03C69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98963-98B8-422C-9698-9B42096AD91E}" type="slidenum">
              <a:t>&lt;#&gt;</a:t>
            </a:fld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063A188-2731-483A-B812-D6E03268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19B01AF-CB9E-4AD3-B43A-51633ECE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B0FEA09-60A0-42CA-A237-6C341A99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41EFF00-0B37-44D7-9ECD-EF51231D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2F6EF5B-373C-4BA4-AB23-6EA0082F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389F526-A294-4F2C-B403-8E6BF123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847065D-621B-464B-8FCD-5FA250D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61408F4-28FF-4A25-A58F-397CA0C1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F01D968-13ED-4B4F-AEB1-1E4511FC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259C8BE-9E98-4681-900A-5D0811EF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C55A2-1DC8-43B3-845A-9AB4496E2065}" type="slidenum">
              <a:t>&lt;#&gt;</a:t>
            </a:fld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999AAB1-1AD1-4B96-AD12-3427CB592C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AEE0267-5CD7-425C-91D1-77C2A1C2D3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6C089C5-6A42-45CC-B986-CE5CF358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4A5E079-C55F-4C67-89EF-FCDFF7EE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69BCE9D-9122-44A6-A5BF-ADAEDA64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13756C-839E-42F1-8F39-5CDF7CE4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C1842A-E46C-4251-9865-BAB5A43C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69033A-C9EE-41B3-B3F1-08A5D6B4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56640E2-FC7B-4F07-81B6-84CAAD0F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F5ED2AF-132A-456E-BB48-18EC2F79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D6B05-5ABB-4D2D-BB21-B88B2E66B24D}" type="slidenum">
              <a:t>&lt;#&gt;</a:t>
            </a:fld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CE529A-BD05-4B4D-96CB-5DD530F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33F8DB-D394-4B7C-8344-FFC6F1D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E66A81E-421E-40AB-99E5-6B5BF97AB7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693F4-005E-49E9-B2F6-7C00AA1584B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476CF-9E1E-47DE-B734-CAB19A7373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BDCE-BD56-4F69-A5DA-6DA5A9AE2AF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05460-05C5-4A6A-9D77-156320ED477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E8E73-DE8A-40B1-8D5C-ED8CA614392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F1730-9472-4E3F-8D8C-03639AAAB82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17D31-3BC0-44B0-92A8-C170E37DB1F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0BA66-6DB2-4F45-BBD3-9D630C9B613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1CF33-BFD6-4CDF-9ED6-823141E7B9F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A437-2E7D-434D-B43D-FBAE5C522D0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F4F00-A7DD-46F1-8D13-DF641636FAA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6122-5638-4511-AEAD-6A05FB6335C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BEF1F-2CF5-42D5-9875-639D4F70DE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1346-8194-4CA0-887F-2817E3A2A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584F-1E90-4E78-9B40-687D1995B10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89746-CACD-4F2A-8DE6-BD7561294B9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24B94-D363-4F48-9033-F20AE21C396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FB0EA-AF15-40DA-B19F-1902A0BD7F5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FBB03-B6D3-478D-9546-7F9909872EA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7D73B-878B-4E5F-8453-8458D57CFDA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82569A-4779-4B54-A8AE-DAC60128A9A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9945C5-D8FA-4C26-BEB9-FF5D98B2E69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1D0CF5-9A05-4E1D-8259-A5C239B6EB6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C4C214-E876-4D13-AA3E-09A9F5A6219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1E8AE7-376F-462A-A6D0-1034956ADC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246D-AD87-41D3-AD8E-2D0917B7DDC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A08848-42D1-4760-B002-A3CA396F3F4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F84D4-3370-4478-BA84-CA23CA6CDB5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0ABB07-F815-43A4-9F20-1597743C448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427800-A4A1-4596-A2C3-3AF620A4B2E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779583-AAC9-4757-AEFF-5752E7E4CFB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796727-544C-4520-8073-DE70E8E2EF5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D56A2F-73A8-4868-9AEF-41CED9117E0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4E50D-C388-43D5-8A9E-2E6D7EC7430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A7AE9-2659-4B6B-B0ED-30FC18D30A7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38ED8-7F4D-4B36-9D97-F97F3E045C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2350-6083-4DC9-8CEB-6312CC35E11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98EED-B0D9-4CDA-BF42-23F972A7BB2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06336-B2F8-4879-B1D9-1EDCD587CC6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EC034-92CF-407B-BD04-467F7A3F255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DB796-28BF-4C08-8870-E3B576DB5BB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3A305-E692-4966-B1EB-EDA56818963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64C7A-0C59-451D-9C27-7092561067A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D968A-A17F-42ED-9E58-8DC7DB3D241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BBC6A1-AA71-42B2-81E0-104E25C714B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04E53-D3DA-45D2-A19C-ED8E17CCC6D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A8E71-F372-46B2-94BF-84B6BF2821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2ADD-F58E-464E-9510-E1E78D82289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4381F-89BC-4CF7-9F47-850C1D97EF7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CF78-E20B-41AC-A918-82ACE59B4B4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E7E51-1F07-46D4-B566-2698129026C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913A6-4789-4742-A286-DF5B88D9962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240A2-E49D-4034-89D8-FE69D08D6C1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E15B4-D783-44E3-ABF5-4EA22C2C53F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938F0-FB27-4A38-BA4F-25BB3FBE882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BE9B9-D043-49BD-8225-2CBA85280CF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4603B-401A-406E-8F8C-9B0B1E93257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00450-7300-47FF-8BF6-54BECE142E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30E8-263B-4CE1-86C9-F955A9272EB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24082-3B05-4B48-B73A-6912A2D03EA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9D1D4E-482F-431E-AA7C-A4640BA95B0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5973AE-5975-4D6B-820C-97B098AB736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B7C65B-27D5-44AB-8C34-F3661001993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9CEAE3-7F5D-4445-B80F-752320B230A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45876-D4FA-482D-B681-7E841C67B56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38DA50-1343-4136-91FC-F8130960E48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AA62FD-1B86-4818-BECB-EE69B2443A8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056A16-B322-47AC-BE28-97DB2262870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B4192F-0B1F-429C-BF69-DCD5DBC2D5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497-F2CF-442D-84F7-B5DF27AD292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AB2EEB-087F-41CD-B92F-F7CFC9FFD98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A166D5-F8CC-4685-9F3C-EF31C4AB442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06416C-ECE4-4F87-B657-CCF248BD442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BCB17-7856-4A5E-9DDA-88D692E4B84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F5171A-99CC-4F47-8ACC-B108FA48332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D1A2F2-1706-4CFC-A6C7-9059DD522E3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146D8-E2EC-4ACB-A0EF-0379DBB306C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F444DF-C859-457E-83E9-52D3B416AA9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787760-F694-4BAC-87AE-31C4B946D72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ED623-3460-4464-B66A-33C5C47BEA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698-04F1-4DBC-BBB3-0B9E12685FF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0F9B9-9EA9-4CD6-817C-E22427EA46C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0220A-6758-445F-8E13-9BD2F7290B0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1A2F3-8385-4092-B270-857ABFB01DE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C2956C-52BC-4BE0-8573-45CDAF0B351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A38896-3B9C-4A1D-B785-362EBF79947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8EB55-5385-4E1D-8FDC-EFD037E2DF1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4A91D-F75C-4998-9371-02E3C4EE5D3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D4D50-6C36-46E6-AC1A-0AC4B6488B7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6D563-C0AD-44E9-807C-26EFF07199B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8AF38-13DD-4665-A6B3-56ECA7214A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D96-3810-43F9-8084-370A23BDE5F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1CA30-201E-4079-AEF7-07496C4E273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E02BB-EAA9-4009-8CFA-1A63FE81148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C34A-32C2-4FCC-94B7-2DFE722A186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D8156-306C-4D2A-B64E-2910CFDA85F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A7308-CBF9-45B6-A5D0-9C72DC65F60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3E52C-CB93-487E-8A2F-E6E7A3F14E4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A76AD-9B69-41AB-89CF-A78CC0685F1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CE062-2F49-42BB-86EA-B3E3C7246E4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88DA2-D995-4237-9150-24C7479FF34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1804D-B93A-4DD9-AB15-171842C2CA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3EF-4A48-4F6C-B712-14A5272CF0F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AACD0-F301-4CD4-88EB-F5E995BBBB9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06AAD-FDE2-4084-9472-8CE8E8C387C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4D507-EE8E-47F2-99AE-AFAFE454749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6937A-8C83-42C7-8512-1EAFC4F6575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06872-69BA-476D-B708-EAF529E329E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758DC-922B-4F4A-BEBB-C0D9C242A5F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D4B5F-9B00-4B55-A862-579F5D2A5B8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AA61F-AD3B-45F2-8833-ABF95712459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543DF-8F42-4817-BC44-8E273189355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2E345A-2AB2-4FF0-9632-6F428727EF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1D5-AD85-49D5-A7FA-C971E663945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A7794-05D9-4E7C-8DCF-B64A4450ECC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A1DFB3-2516-480B-B95D-51998210806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1E9830-4786-4B8F-A3E5-221A8080CC6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CA3D1-DE94-42C9-835E-AA3D84000BB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36C9D-C382-4FB8-BB77-5E9312C5A29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FE58EA-EB81-4391-893F-5A5A8DAF36C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9EF986-3146-4087-B456-2B112AD29F8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499198-3249-485F-8858-150818FEC17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422455-10E1-4757-9325-A38853B992B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216A1-7B91-4E0B-A819-6F9D0CFB9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3ED3-0F81-472A-8127-2506C1755D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D05-79D2-4627-A46E-C936A03119A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FBD44-0A7D-4DF0-9218-39965F5BFCC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AB8E8-C142-436D-8464-264245A15BD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C11DF-DF00-4D66-AC70-AAC9437A84D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B9CE9-EE41-47CA-AE5B-275DE9EFB3F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EE998-E0F8-4163-BAEE-8A6FD36F395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31A6E-3C6E-49D8-BE7C-DDB5CF8FA34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6D620-F578-4A59-A867-A45C29655B6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8B81F-CB29-4D52-A350-07161DD31F1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4C1B4-8D00-49E0-93A9-EFEB5D73136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B1BE4-31D8-4E0A-9E29-DFDE320704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0C6-49AA-40A4-918E-B1785795B63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BBC7D-825D-4EF5-B8F1-DE7B098AB29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BC066-CEDA-4666-AE45-42009F48914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0AF15-DC99-4834-B63A-42813D44F61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7FAEB-7E48-4D88-8943-9DCE6CF4447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07174-3306-4A94-B4B8-2D576DFA135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29F6A-FA7F-4494-BC34-1D29DA17413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ACDBA-5132-4A9A-B41C-6427860A506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05D56-3224-4E0E-9218-38A325EC57D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2C2CD-86C3-457B-A295-E94659D8050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C5FC2-C70B-4CE1-9F62-29E2533965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BC4-B606-49D0-BE46-C9E6469D8B6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C3EBC-5206-41F5-B985-4F0FB0360D5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5F348-F5E8-4D1F-B863-40C5F1998A0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D861A-B14C-4066-A8B1-CBC4D8283EA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84D32-19AB-4EB9-8256-F2A3B217C94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85F06-82FF-4FCB-9E40-AA0C987CDEC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8F1127-D897-46A5-B1F1-7E8C176074A2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CAD58D-F752-474C-9189-EA3C24BD620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60A123-6B13-4C6F-922C-82B7C231CDA5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39127F-C5AB-49F8-898A-EE6FEB495DF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1BA842-955F-4E36-9169-7EA554D9E4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FA7-DF1E-4526-A7A8-8398C1D157C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270EF8-3AAF-4D30-910B-DB4C6C85AEA1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12F6BD-CABB-43CA-98E0-FE9AB7C58591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5E999A-1773-4FCE-BB23-22FE1E5978CB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EFDFE8-31DA-4B50-B0A7-06E657DD316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32992A-BE27-41C5-BE6D-3938181D8683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D2371C-4191-4E0D-8447-CDBA6D6985D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470AC5-EE78-4BE2-8370-90476F2FE95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40D89-C264-47B3-BDAF-F2FDAE3FEE2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CEB44-6C0C-44C7-926C-1C8008B0EEB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7DDA3-CA4C-4C15-89DE-46A87414D3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1C3-6217-489E-BC57-084EEBBC52C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DBF8D-38C8-42FF-980F-67FE4BC3698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902C4-FC07-455D-84A5-838EE10927B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4F053-57C9-49B3-B570-67139514DD9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4B4FA-E2F1-4F4B-947B-25122920BB9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78EB1-E58C-4C2C-A48E-EB8784DA1C2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C3A5C-6D4F-4AD2-B9C4-DC0DA269DBA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3AD25-49E4-494F-B556-EE42FA8C099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12D14-0C32-4630-882A-98CB7BAF6EC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FE8E9-B9A0-4CC6-A2FC-612E89A36E2A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628B84-8432-427D-BD82-F359D0E150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76E-8A89-47DC-8A82-0063AAD8FC2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011A6B-A3A9-437C-A7AE-492E836A517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70A8C4-DA6E-438D-A0F4-59B39AA515F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7B3644-89A8-414E-B8DE-46C833B9E9A9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F8782C-74A4-423A-ABF8-5E8DF6C090DD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C35394-576D-47FF-A0E5-61887293182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08F318-E618-4902-B315-18CE92601AB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88DB4F-8F6F-4CAE-B551-A5202C08B3E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648D65-DF11-40D1-A235-CE2D7A85CD4D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4DBDE6-A86D-4EA6-951E-E656CB7720A1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6C47E8-29C6-4ADA-947F-4DFAF95742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377-84F1-44B6-B3CE-DFE30F6BBC6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833547-E778-4AF6-AA77-833FAD00CD8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3D75CC-33F8-4598-B7C4-C7B38A964BE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A7B175-24F5-4A0F-A1E4-E63881AFA28B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43DC5D-F989-4880-9F8A-B6693F9E321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F340C1-4D15-4785-9908-09C37D0E03A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6BA8D4-04AB-459F-9CD7-14A25AB4E1E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AAA1B0-2F99-43F7-B883-A635386F9AB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D0D39D-DE57-45C3-AA1C-2223F60A888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38030B-CF82-485B-B282-1655540A860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7C88B8-5840-47D1-BC9A-616BC4D72A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70F84-0A16-47A8-B99E-151DDB0B08AA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22605B-8AE7-4C5B-9DCC-ED42DFEBDFE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B5E4DF-2E53-4795-8B64-4BC013881F1D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2B68B2-56BC-4AF0-B616-88995F24F06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79563-0D83-49E9-88FA-35AAC7FD306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7A549-62C9-4830-B59D-F99C436E0A9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ED9C-91DB-4A74-83CD-18ACF2FD76E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2378D-045D-4E13-8CEC-09F0FD5ACE6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F46B8-D6C1-4F90-A4AE-C4F56C683F1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C9F3E-3623-469C-A321-19DCE11E07A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92212-8E1F-47A8-B672-2763A18578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B94FE-3467-4BAD-A938-9FBF55663FE5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9F9C8-6447-4F87-97FF-099F27A5EE2C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0168A-D828-4F5B-8E49-5A462EA06A2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08E3-93BF-4D3C-97B1-ACBA27B7A2CC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B252B-06EE-4675-8781-3B120B91B5C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7B2D9-1A62-4D5B-BEDB-A51610B5B96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F7B3F-C38F-4810-8B4D-611E8D3BE65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670B9-33DD-4C0B-99DC-E047E1CD465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C38B9-8FDD-413F-BE72-84613412FAA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26356-DC58-43EC-9609-A1E62F406A6C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EEA47-D172-4D41-AB2B-482A0C9261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7FE12-E5D7-4160-BF80-A6D8DD4A7CAA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F7014-47A6-47B0-84C3-F7D24B65E11A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70144-0F2C-491C-848C-904B75BB8AF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72E7A-9591-4B61-82FC-45F05223469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1AEB6-8BC7-4FD1-8D7E-7DB2914FCEA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5DA30-0BA7-4B91-89AE-EE76E3426425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751C0-2962-4A82-A156-43837D802E1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2FAC1-6A86-479E-9861-E3D40C2B01A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F6960F-41EE-45C5-BD0E-A430DD255325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0281C2-A003-4878-83A1-72172D13CDD6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0B19EC-3D0A-4E1B-A3C9-5E120318B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A08D-4BF2-4E6C-8F09-D93679E9B4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364A8-44F6-4870-B8FA-2B5C460EC24A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2D2B43-5B7B-4133-95DF-B2E40772FBA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4565EE-070C-4051-B3F2-126B7C0B6C4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E8FC5F-2EE1-4B35-89C7-6CE9FD96441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B334CC-2A76-490C-BCDB-7CC84E836268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877BD6-DBBF-4848-97CA-2647E8C787A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0BE162-8945-4EE6-A8D2-16420F991A4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7E8D89-773F-4186-B32C-B23ADEFB7BC6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BAAFF8-AAFA-4C46-B42F-3288D5A7EA5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290DA0-AD3A-401E-8381-F483C21A4E45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F597B-F449-4411-83BB-9CB822046E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7C482-B58C-41A6-B2EB-9F5EC81F2A01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4E5C1-A274-40A7-B01E-13A5B55DD66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29D16-41B2-4C9A-ADCB-86C0FE939C2C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336B0-B8C4-47E1-BE23-02440B52DB01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5BC04-0C6D-4E78-B20A-1F9E7992EC4E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D51D0-C1A8-45D6-8EF1-F602FBF0FA7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0A77B-5AF4-4356-B87D-4ED5C7E9319C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40DDB-DB11-4D71-8CE8-5EDFEAE8D1CB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5B763-0802-4715-90BE-F3001F07528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C513D-83AA-462F-8BC6-523392820D7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97F65-26B9-493A-9676-06B0ECB314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CC6B7-4262-4F54-9248-B7E0E2785A42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35ECC-62C8-4BF8-B556-85921917F1F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E8DB40-1494-4198-83D5-9DBAEB6DC056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D5ADEE-6A74-4B53-9F6F-B164A3F79503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EEF15A-F58F-4C40-9C48-F64F4E31710C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4F07BB-33D5-4596-9B24-E4DCF0FCAADC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D80D2C-D33F-4545-97F5-AF3655E1D0B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85BF4D-AC57-4B5B-A9F3-E9191CD323AA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D4680A-73EA-4D27-9BFE-0DDF2766FECB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BC860B-955E-4881-8DD3-000D30F49900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A51452-8BD3-41D2-94B1-914D7121C7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78580-6A11-4BE4-94AB-FC3625A0E670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4E8507-EB0F-4BD9-BBC7-7180B9D79F18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4BAF41-C5FE-4397-BA0A-8105EAC7C66F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BE50BA-F86B-4722-9A24-A6742E701080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82E7C7-6A7B-4DF0-B89F-AEA7CC28D92B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BB6444-90FB-4A7B-9DD0-ABE747996D69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A5D17F-AD14-4283-BE83-A688F46CDBC6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09664A-815E-4C3C-A681-34E71F300BD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77A65E-0601-4DF9-941A-DA986F92040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31CE70-3417-47EF-9DF3-6ADA64FDFFF5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482D25-F3D8-43B0-B1E7-D369096129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19BF9-7DEE-41F2-B01D-6B4CCD964F97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4A8D6B-2946-469B-BC79-468DA031E598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0F5FAD-047F-4179-B314-B632BA0B41F3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3DDFF7-6C91-4F90-90D7-5E8EA2EACB5D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8AEC3A-FD2A-48B9-BD02-12B4230E379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0ACF7F-EE85-46B7-8DBA-9571540D28E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04D41-D14A-4ADA-9172-3559E94AD3DD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DB346-BAF1-4317-A33B-84D6E9F756C4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FAF72-58A5-48CE-B0FE-CA18A96838FE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3B2B6-AF6C-47AA-A7C8-6E9868A420D1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847CA-D273-468B-BC78-0D2AD84297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BD856-C8A6-465D-BB71-509323A97DA0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70444-7066-4F32-9634-6968063B690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1C50C-919D-42AB-A06F-F518D7745FF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6D32C-D27F-408D-83BD-10E80C15455D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D7D9E-05A0-4A98-BEBF-F5FFD811C829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A4878-43C3-471B-9B97-38F863E12BAC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90F47-6F08-4661-81F7-A51585917538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0F7D3-3206-48ED-82A2-D6FA5C11784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FD7954-2EF0-4E82-A970-EE7F3136628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F9F666-71E9-4636-B015-400A85A07EE4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A6E06F-4DA4-40FE-8869-FCD19A9BF6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F57FB-CBFB-4464-B320-69660F8FB43B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90CAEB-5F62-4B0F-826C-EB332F888482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A64371-9AED-46A0-83D5-49B127AE120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406A31-ADB4-4BA6-B409-40462BBA2CC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8DBB52-6DE8-4248-BC53-DECC5127732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9CB12D-C71A-4DDD-A9F2-C8BBF0C2F20A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D0795E-B03B-461E-A64C-ECD85F3D8067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7FF876-A880-44C7-9D4E-0FD4B3FD52D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CE58BC-355C-4E8C-A8BA-4DF99BFFCB4A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2678DF-AA0F-4F29-A85D-5DDF7015121D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D9DD8D-2C2B-45FD-8C45-8E94EFCD72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3846C-1BEE-4FF9-9E46-B8945B9E8A86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0B93D7-C1D0-454D-B179-E1B00F86A61A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FD37CE-5820-4BAB-9696-809E633CDF53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B94FAD-D567-4C47-BA5A-33CF4C9008FB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BEAC33-793B-4DF4-8065-074644AD6E1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423412-09BA-4BF1-A5B5-38D8D522965E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E0573F-5BEC-41A2-986D-91DA5621B46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2BCDC7-6B8C-414E-B667-9002D73188E8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4FE864-C16F-4727-BD0C-9EB5C9A59702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625EFA-DD91-4579-ACB5-314F028AA1B2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405109-3112-4119-8F7D-6263B9ED45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22F90-E418-4446-9BF9-78D056561A2B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96F35F-ACD9-4383-906D-8E5FA4DE3728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B0059-8FB9-4BA9-BFF6-3D23B683CEB7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FBB55-FC48-4019-A540-CE76451757AF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61197-64C1-476C-BF9D-B881A9B8135B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F4D9A-0C63-453D-B18D-5678D7807401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6492C-337C-4CB9-A44E-CD474951F03E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3B28C-F22D-4CE9-9E4F-0CC24475D2A6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702D9-414A-4761-9783-1148F67CABE8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486F9-F738-4E54-9D55-D7A13FCA4425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4F1C1-3AF4-42C7-9693-465B540F08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FF629-6EDC-419A-8801-EBE5A1B988D3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13B87-5D88-47A3-A5F0-0B2923B3AB70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2F850-D28D-42BD-9180-7418AC779B37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51450-3DDD-4EC5-B695-50C61EECF26B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567F5E-6880-4DE5-8EF3-B0B865D90C1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44D39C-CCD9-4402-904B-C8551BBCAA1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FB3E16-7CF4-4E5F-9B31-7E79437CA6F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BDCD9E-3854-4898-84C4-589434DE2A3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6D7C6A-AAFA-49B9-B0F6-DB3E5C1C2849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35DF94-B8F0-4DF9-AF0F-3C93C848A2A8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C4B109-03C5-4017-B655-4AA275BBA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8018-C584-4E47-A08F-ACD460ECFC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1C3A2-756B-408D-85CF-A5ECB6A14474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F38DC5-A061-4CB7-9652-D66C101D105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7840A4-AC4C-4874-9C96-6B44684746F4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6C45DC2-5CE4-4422-BA3D-E2C5A90417E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07CC1A-8E52-4905-8A05-A04C6C03AB1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EB72BE-9BD4-4A95-B191-CC9D5747A5B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176118-5969-47CF-875F-D241B359DE1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B27C22-F705-4ADC-A84D-C138C47B4E66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CDD753-B281-45DC-9F23-032AECDFE3D4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9D2BDC-7E88-4868-8C3B-3443D4F3AD84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71F387-E852-4F03-90D9-12CC1B7EF5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8F040-9AB0-46AB-9F48-7701BCB6A1C2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F08194-4EC8-45E8-92D0-D9F818F8B6D4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963583-A6C2-4770-914F-14128CA85448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479C47-14BB-4214-9728-1B702895D3F4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C5938B-834E-423E-A1BB-1712D996ACEB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6F6007-D303-4DC1-AE24-4361A47B01E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4CB3CB-3BA2-405B-97B9-751D41632C6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27E88F-009D-41B1-B332-6030A1C5F2C3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90381-9AF2-40FB-84B5-39C8B3C68DE0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F2D55-0506-4D73-B713-4DD40A674F47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485EA-65D9-4C1C-A898-7533928055A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84642-4290-4C36-9B11-433134CA0EFA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75CE9-C9A2-4836-A5CB-26B488FD2846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BA108-5E35-4137-A909-7D5ADC78F3D2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8DB1B-1000-4B24-8E5B-D23B3CA58085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2478C-B81B-43EF-8A5C-28D0AD2C543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6014D-1DA4-4C7E-B52B-84ADB5FEB847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5494A-F938-4A5A-AF8D-F39DB7B19F39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AB781-8785-4084-BF3D-A6AF292F6798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F4F02-5F60-4DF1-B8CC-AFEC4F5F5D76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CC8A0-4152-4903-A29E-9CE410CDD6D4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EF84FE-F014-47C9-BCA2-2042D77DF6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D254F-38BC-46B9-AF68-B6E7F8C4BC42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813129-D931-4BCC-8FC7-ED204F6D79AF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79B8CB-C5EB-40B6-BFF8-5CA65BE7577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75F34D-12D4-4B74-957F-2D05D8B939E5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44E4C5-4345-4109-81F3-8AC9A9528FE7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C88B3E-DA08-466C-BFE3-5ABEED0F43F8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D01CE2-F4DF-4F0B-A293-2D905DB534F8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F8672E-7057-4319-A125-596C78A2841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37D6BE-F101-4C42-8B0C-5AA21E350DA3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9364D9-89C1-4DAF-A47D-47A96242A39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0408C6-AFDE-4D4B-B564-12F493C7D3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C1BA6-D3C3-4F80-B9F2-DED09850A477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82C1C6A-B3DB-4D70-89CB-3AEBD676E0B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B78088-0735-4E79-A5E1-F2AF984A4523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F84451-515C-4A78-A326-A8EB0221EF0D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B44C70-6AD3-4F33-946D-4CFD5424C5C8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B92B7B-34BF-4BF7-A5B4-324933E1CC7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356556-4B0F-4FB6-B37A-F2C8FBF7340B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6F40D4-4C3E-4E3B-9ACE-13961108EC2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AB5483-B62E-4CB7-BA94-7D4EC91AC0B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D1070B-EA4B-470D-869F-BAFDB15A4EA8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1059C8-AAF1-44D1-9591-9F8FF82394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0400A-8561-4821-BB0B-F3275AC77441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F6E741-F490-44B5-9A5D-F209EC798A27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CB9FF0-82D2-4254-94B0-280C27C8CCA1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0CDD26-5D59-4073-9F58-2F7B78778F3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7C523-A9C7-49C7-AC1E-4D20F93950D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A531A-FAD2-4F94-AB22-179B3083A0D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AB035-F29D-4749-BB83-A43F70A8F7D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7138E-D0B9-4321-A1C4-222FE023F32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D1160-E84F-4F8E-B945-2047D014BBD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BAC33-8F07-4C0B-81AE-4C1157943EEA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B6242-8098-4121-9151-45D4A4C8E7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259BB-60E3-4002-9824-6298360B5359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4C947-01BD-402E-A625-3BADDA2232F3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5BDF0-C242-41BD-8ABA-D26A2AC1084D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563F7-FC11-408E-AD8B-221A2A76FDAD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8FDCE-6930-4E0E-A10D-8563C29E151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B6C48-98B6-4D67-9423-873DCD12D4C2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CEACF38-4E5C-49EA-8615-51712A55A30C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3B0F6FB-3286-4DAC-93F7-CF323ED9E913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3D02B9-4E15-44A4-AB68-AA8FB2F4A790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6C152F7-62D7-494F-8F16-3DF2479F2FB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FF67DB-0B22-4670-B927-959D883CD44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133FA-8896-4F28-A0E1-29CAF2DE19FC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DFE8F2-DA02-4219-A902-86042EA55DA3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224D1E0-D495-46CA-9984-6A59B4B468D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1BDBA6-C049-470F-A596-644ABAC32AC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77F3CE1-A33C-4A39-8E05-61E4379809F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11C389-FCA6-4E24-B7F9-BEE2FAE41B7D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7488A2-5158-4CC1-9142-E2CCE8B47E14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5DBD68D-E663-4DB6-8269-90081646807C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48BC37-5D91-46C9-9A2C-1B68BA59B472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29565A-EAE1-4A89-BF55-80D390DF907A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9FC2FC-0BF6-4370-B661-4166B6F562D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C399F-61D4-4F0D-8520-7C07AEDB033F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C5505B-E406-48B9-8BCD-5AB6513E1C44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48B925-2416-4503-B551-DBF36D0191E4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70911A-A471-4590-BCD6-976B00D8363E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9F4EE7-A98F-4C5F-88C7-00665CF8F149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240041-3644-4119-8467-CC7C37E115AC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31B1DE-D604-46BC-9105-A9118C5AC5C5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DB57FF-8188-4B1B-BDE9-CBBFBD76BCB5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310016-2732-49F1-A64A-E06391153187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D7EB32-E70D-4C48-85BE-D4936D4B592E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EAE07-AE42-4345-A8DA-4D10B3F69C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B2B38-C8D1-4BD2-B9F6-A1C4F619EBA0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1425F-4787-4D0C-9E26-89F1D709B1B6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DF4E7-06AA-4019-82F9-4893A5BED623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6EE12-6C30-4D1B-B971-36B873AC45E7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DC235-4A76-4B45-9420-00C24991C950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DC3F3-1531-482E-88CE-94B13B08DE1B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A0799-5A01-4751-B80F-CA398591E737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56D5F-1D62-40A4-8944-62A6255F691D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FC21EC-3170-4E79-8BD8-706AFA26BC3C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64BAE-8CC6-4908-B0BA-E23199C4DAB9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4F58D-AE59-4708-91C1-C81F43D4B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C4DA-C085-4A7F-9D57-05D190EE297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BE2A9-9000-4632-84F7-FDBC89E0D41B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F27EE-05ED-4F1A-8634-FF6D58021A3D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AEA8E5-3D6D-41D7-BA8E-2EE397C41AC3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9AE47F-5CD1-41EA-A4A1-99DE566B48D7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153E0B-9A50-4A77-A845-9734407D7E2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3FFE08-2851-40D9-8939-6CF776935708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92DAA5-3745-4293-9B46-CB2FF2959166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314434-2BEC-457A-9373-B37C8C723642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F143DD6-1A35-4CB9-8A8F-373A429BAC03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F280F9-694E-40FC-B365-92DA4D2BEC6B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184F90B-F0BE-45DA-88FF-7C85708EC03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0355-EA13-4C0B-BBC6-16BD9FAC3098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59A262-C16C-4FEF-8BD5-6489CF367AEB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2FE1CE-5867-46CD-B0C8-FAC3803AAF8F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F28CD3-2CFB-41A4-A841-7918CA6EEAED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97A295-037B-4DD7-BAA2-03924F1AD231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8FD67E-8A54-4CDA-A292-07512709C1A6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00096F-E4D1-4477-A4BD-17B24B76C49E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626EEE-AFDD-45C6-A7D4-81F48CF92DF2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C2BEE0-A4CB-47E4-9B2D-0601F515B85B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B0A5D9-3E18-4AC3-9E29-FCA9C2555D4D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3908DA-36A2-4EC5-9AC2-B8A620A1058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3A95-94D7-4C29-9F5A-1185F350397B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6EE5E4-AC5F-4E0F-B086-5075270E0B60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BABF20-4F26-4DD2-AE35-361100B7C25A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319852-23A6-4479-A68A-2EE7B4E8DD6B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D825257-C2F3-4DE8-BFF8-4B2FDC693F5B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B2DBDB-BBF0-403E-874E-A03EF4FE0E72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1F9DD-D9A4-42EB-B9C4-B22D11424109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D7C6E-7B45-4823-9AF0-14F7838648E2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51B57-4543-4E2C-9FF1-994509324E4F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49BF2-4996-4189-8F01-F1E550C33923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AC5BC-3846-4876-A432-D992BB17BC5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153B-1BF5-4C9D-A2FD-BE4229AED221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5D9EF-E7E2-43D0-8E34-3AAF2E10ED2E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83AEB-067F-4E78-84E6-F06B6428904D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9090B-31EF-403E-A75A-6EDF48A11B21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1467D-1570-4858-B80F-09EF871FFE18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464F0-7A63-4F8B-A4DF-7E824FD8CF51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2ABBA-620D-443C-999F-F0A8FA8481CE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55D15-01A8-48F1-9755-231BECB96EA2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820004-BF5C-461F-A1C2-B174183481C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75D4CD-8739-4FAA-95F2-6F4539533849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AEA82F1-2DCD-47DA-9F0A-8F5EAAC5E16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1C07-B450-4CF9-BE30-45220630A26F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F588A61-262F-4B19-B2E2-AB5A4E2DE75C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4954E7D-67E0-408B-8264-E6D3D5F30D3E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4CF110-7AED-4DCE-9F72-E990173655D6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594A69-9479-430E-93CB-A89D47DBBF4E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97C7757-6E42-475A-97A1-BFD833293FF8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230C958-7BE2-4233-8E3E-D3B5E9ABFC3F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3C7016-292B-45AB-85F2-0CD418B2BB7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CF45FC2-7481-4651-B8F3-8A56A446B0C1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C6C0CB-5088-4920-9A59-7CE4E3CF0AB1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B2366B-7DE7-44FA-8830-E963BA7F96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DA25-5F35-49F3-BF8E-F940FB988575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61ED8F-5D15-49B1-8D40-1252A6B569B9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D15BB8-FE52-4D79-B47E-02DCBDE01C5C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7AF366-DD3F-4834-8D8A-02B1242FF38D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86CC2E-2BA9-475E-932F-0151AF6DC474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93EA99-4C4A-49AD-9330-80A4060A04B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100C21-E644-449A-8714-7412C0AB22FF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1B5921-5067-4296-868E-F267B543861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F9FCB6-BF12-47AC-BC96-C4459E42EFA1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9F5020-0A36-4063-AC1B-DEAA2CBD2744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31F5C2-B103-4CE4-AC6F-F1094844DC1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EA32-0C5F-40B2-B248-AA5737F3BC6D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EF7BE9-D004-4525-A444-3A0904673C60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6AE8F7-CFF2-4AAA-B40D-6BF70A7BF7CE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F1A14-6C29-458B-B99C-70EC5C27C24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DFACD-B715-46E3-9C89-EC7C5D6D934A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55AA9E-F257-4A5C-AD77-7541E3F72FF8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46B91-CF76-482F-93BA-005D718ABEF3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74F6F-1DF3-43A8-B20F-79C1F6D46F1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1F445-BD1A-41F2-81E6-345AEE7237B2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B62DAD-FB6A-4737-BAA9-E4AF4096233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1923C4-AAAA-4D38-B24C-EA627C670B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B623-4E18-44C3-A054-549326F5340F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A0809-E89B-4635-8DB8-9F195FFA170B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75BA6-6DFE-4F66-BD79-C97215180DB8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F2B44-AB29-4666-8492-9E280633A20E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FB6A0E-A0C8-4A05-889A-B7C2B945B61B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C7251C-1BF9-451B-8EB0-973ED8B3F298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FBAF7C-F3FC-4737-9886-9048AB9F5EF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0DA120-D327-4D02-916F-BBDE40EDC7B4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319435-5030-496E-90E9-89729E93BA93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AD06B2-6AAF-4F34-9990-7B3C46A6E2A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56D1C0-9372-47D7-8933-8D27A50A9A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644F-E961-4B9F-9EF5-7C873C9F0EF6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C2E128D-880F-436D-A143-442252A772A7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F31E66-3F22-49EE-8D4D-8AF9A9A376A6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6995E17-AEE0-48F1-9DEE-08AF21E65E32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B146D16-0CE5-4A23-96A2-FAE85144E67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621534-AAC5-45EC-AE07-FB12AF3FE965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27E442E-79E7-43E5-8EF2-BCB9846498BA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23D56F5-E656-431F-9DD0-4D56370BC144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AD8260-C9E2-40D9-8104-BC365E365A06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171601-A78B-484B-9CDA-0652B49D6784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8BFE5B-E5F0-4456-A9FD-A8A41BDC3D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E037-E05A-472F-9B8F-F858B018BC71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5B617A-47E6-4493-A515-68EA3A55DEDC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F20C2A-1612-4135-90A3-FEC5F2D0D47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7DA343F-F3D6-44B7-8A08-31EFF1B65BA2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F0CDEE-3017-47A3-807F-B5BB0757A4AD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379715-5C58-465E-8F3B-FA916ED5C23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A2D35E-CCCA-4656-9BB5-FE345501F8A0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EA3B8F-775F-40CF-962D-9C9CA3C80844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BE75A-675E-411B-A41A-4636D6EC4804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3401A4-AA03-42F5-A79F-84AF58A99221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8EE0ED-742B-4E2A-A411-938C00630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ECE8-5727-4C04-8538-3C2D6E24A08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13BA-E50A-476F-A324-28A6C7698CE5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9EAAF-A818-4A85-9770-81D4CA900B7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7E8DB-F0D2-4A81-83D8-114D32D94419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5A9011-8BCA-4726-86C0-8CADFE3F0B3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1E4DE-C21B-4678-A7D9-F13B7D23BFF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40F15-CA4B-42FC-AF4A-9A17633B1E5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201015-B666-48A7-900D-502B0351D0B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725A80-2819-47C8-92DF-AE6A38739E02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1347E1-B5AF-4A35-8832-7DE27F87C85E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6607A-686F-4C6B-9372-336B8609A8E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11456DF-A4CE-4F80-A6FB-5C29772AB3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FAAB-182C-4AA7-82CF-6CD701A745E5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9A1CBE6-C0D1-4D41-9F19-CBB95268A869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F672400-1885-4217-8A8F-88915AF4F214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F72489A-6F0A-4FBE-AAEA-E4A5D2852933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5EE2891-3A5E-40EB-B7B8-F3BE68E68896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EA94CDF-1DE9-4743-8FD6-07EBDA346969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94F0165-65C3-45E3-8F7B-1B420B574175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25EE7D9-97F1-444D-A023-338CFA453B89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4A78EDF-E8BE-4CBB-8E3C-11A8F6EC714B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3D42306-1D52-43DE-9921-06455B8B77AC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6FAB84-1452-4479-AC6D-7FBBB1D864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AB22-68A0-49FB-A522-BCCD82519E83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E3DBE77-BD55-4AFA-A3A6-153F2DEE4E4D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DDC395C-22E0-47AB-A5CA-7B1A1A87B3AA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2D31CE-2B67-48C9-B40A-CEDFDFE24A7B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4B93678-E2A9-47A6-B770-77652DC4CE11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03E188-B052-4182-BB97-FC3C8B38D899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467812-9F90-4D85-92B9-F6F45DB6D654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92AE54-35AD-4784-8332-A20EBD5141D7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CB5DBE-43BF-4DBB-93F1-1F158F2B10B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BBCBA8-3F87-4EBD-8896-BEBB7F064D6C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AA000D4-6C13-45F1-B5F6-B048117B44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A0EDF-AE91-4B29-A84A-DB9E60285095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0FDAE5-8B2C-4F5B-8773-C4AAC4805F1D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6915A2-F191-41CC-A953-B61BC34321FF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9C7FCA-F950-4370-9021-243AF7A15AC8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81107-A8CF-4D14-954D-6D700199A657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55F48-D7A6-42BA-A5E5-705F3EF705F9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5FCE3-D4F2-4F74-8CFD-F85266497679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79BABE-61EE-4018-AAD8-A56DD58EAF1D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0C1390-F4F8-42D8-8756-96ADE8F278AF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25600D-19FA-4793-B55F-E378CB80B533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F2A09-EC9B-4FB3-921B-8C0DDE3BAA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4BA0A-4B28-4965-AF55-299E267C2A84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DE8E92-1A37-4EF5-8DD2-CC2BFF87D907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32FE7D-92C7-4670-B23C-F99255AD4CF4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AF23F-4E88-4289-8D99-78A76B535A3E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EC99B0-0BF7-482D-9058-00851B04F029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25BA7-98B9-45CD-B432-F128C5512C27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0537977-2BA1-4F24-9A9E-C8728C9EC21D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D29DC9F-3E55-483C-9B6D-3B5ABA8D4C99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FFFCD7-5BD6-4D9C-B6E1-0CBA988F09B2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866E27-0753-47FC-A7F5-5AAFFB0AFD00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AA2248-9756-413F-A1CC-192F45A395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187D9-6A2B-4044-8EA4-539E0FDA4AF9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6ABFDAF-38DC-44C8-8C10-0073B1BA4491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760A86B-D830-4F36-9F88-AEB865D60E6E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39695DA-ADD3-424B-86DB-D9013A1CBA19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788E0E1-C26B-4ABA-84C1-63F4A947084A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8A4816-9B96-475A-9053-CEE27AC08666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CACC85-AC4E-43CC-8CB0-B5F56F56B4B2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DD7AFC9-3312-41B7-9AC0-122487D44866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7B0751-2581-4416-A173-A3B93D80C03E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4D2732-3B61-455E-857C-05B0E1EC928B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D80D57-8CB4-491E-B2A8-5FA50C315F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F2E10-1967-4684-94B9-58BDC349F471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3932B36-D467-4AE3-9375-7CCFA6A9F652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C757F5-9157-4306-BC6D-FBD1E6821D29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AB5F7E-4063-4F3C-8B43-B063AF03C516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C9C4E7-4D1E-4F48-B629-203CCCC7B63B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B6030E9-29D0-412C-816F-0180955CA998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DA08EC3-807D-437D-A2B9-2458281DED04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FA02DB0-C0A7-4667-B733-30A0CA31B195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A5BCE36-A88C-45C3-860E-98889AA85538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A8CAA3-70AE-43EC-8A80-F49F9B17DEB0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56157-444F-4577-85D6-526A638989D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48006-E32A-4E75-9AA4-39933C189C81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B4DD23-760B-415C-B3E7-7A6DC055F2A8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4919C8-EBF3-429F-B036-6EA9EB60FB9A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6FBF65-F2B2-48D1-9A45-53DC59CC2C37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F74DE6-BAAE-4782-9BCD-6B4355BCD77A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76FC44-AB31-46DE-82ED-95EB4644068B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42B1DE-2415-4138-A373-2103EA44BEB9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6DD55-5164-4F81-B7EE-220FC29C53DE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555AD2-D542-4B52-943F-80D55323092F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528FF6-5B59-4070-A051-A4C509BA886A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6428D-D84A-4537-AFD3-6E07A626D9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16DF8-3357-4FC1-96A4-79DE7408BD50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975D63-F0F1-427C-8C43-F2C46B69FEE0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96EDADE-B933-439A-8DF8-7CEC915BD3D4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ACF2946-E594-43F9-9287-6655FA2DF5E8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841B6E7-7B52-437C-9269-5C577AC396B0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1443D9E-691E-44DC-B7C0-690799669288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57EA0B-937B-4F7B-8006-2EA383E1B390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5CCEEA9-F1DF-4D02-BF7B-50D4C96809F4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22675C1-6272-4BA7-B8FA-F8C422639E95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3FFAE3-30F8-4E0F-B1B7-EF68195C418A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64FC128-BFA6-47E4-9D6D-97330565D3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F5C9B-C242-43C6-BAA1-BA3174601239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0237F21-5B20-453F-8075-C2D253C37CD3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00E7C9-CFA4-49B7-BAE4-2949E914E3DD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A45444E-BC2F-4815-B3F0-9C2493AB3039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387C12-4DFF-4396-AAF5-91C0F85914CB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5D494CF-FF8C-4524-B636-3FF77065F98D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B4D42A5-4A8D-4A76-8B2D-C7210110C227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F5A8FE9-971E-475B-844C-FCA7EC970782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E2EFB16-C1C8-4CB9-8B2D-9D46A1E31194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5B3B8D-2318-4ED4-A2C5-9F520ED17AD0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AB788F-8697-47AC-8C59-D6F63F6DC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7745-BC98-47E4-8F90-7E24CFDC89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64DB8-CC87-412A-9295-AAAE09815F39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ECCB3BC-F08B-4F17-994C-00A13858016A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23C0B4C-C1CA-43DF-B291-B52E4F96F84B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BD9764-2A5F-4A77-9C5A-C207CF590BD7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06C6A1-D1DD-4DDA-A796-6DD61EA95516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3DFFBF7-9DDD-442F-8086-DB401E564306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8CE723-6612-4A85-A217-72CE900D2F55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BAA6D0-424A-45C3-9FCB-7FDD878DD4A1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170245-73E9-4469-8E23-AA975E2EA505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9AC076-A481-41B3-9AD7-411D5C2AC63F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79BB6C-D3A2-4176-AFFD-D080CE16BC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B0DA0-7997-4461-ABCA-1A4A527F0C1C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32AE14-9DAA-4404-B037-0622462090C5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210615-D3DD-43DA-B900-B0B9E361A388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8A6B8D-834C-44D5-B8AB-3E45D6700545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41F6B0-C070-4B32-AFE9-FC4144318DE8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A0AA49-D796-4BCB-B220-1ACBC9271BA3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B03C16-F7F1-4733-99D2-3BEB42727F8B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773FD4-3097-4157-95C9-EB0B4E366D4D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758553-25EF-4CEE-88DA-1EC149753B02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5A475DC-DE1A-4C36-9FAE-AC2B8D1CB340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7C4598F-42A9-40E8-A811-665E766F6E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5C55A-6206-43A4-8CB0-4CE13BDA2090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AAAF57-70C0-4CC4-878F-803DDE374DBE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E320D5B-3C67-4B4D-A85C-3A34E939173B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7DC60B-4FD2-4DEB-BE57-C603188FF06F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7B6052-1F70-4FFA-B9CA-AA3E730CD394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986FB0-F02D-4E15-818C-C9E094972ABA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36C99E-D087-4B33-95D1-7A4934FF0978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AB64FF4-216E-4A40-B937-804823D760C0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3567842-405F-4360-80D8-E7C058879946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FDC94F5-186D-40B3-9FB1-BE889D2B29CC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016903-92E9-4FD6-8BAD-0E8D02CCDB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A99F3-8FE5-4512-8E9B-60E8713F1DB2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E7A7C21-C8B1-4DAE-BF72-A15D9827981E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CA7A0C-CB2F-4908-B4A9-918476ADD3E2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A278985-F46E-4F84-AC7B-0383651897B6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8C3F87-CE97-4FAD-802E-B3B93784756A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F846460-ADA0-4238-A161-CA9694498444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1934BB1-F729-497A-84AC-49CED471C3C9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CD8A53-4877-4C06-B540-62B96F2916CF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AA10F52-BA20-4E35-9ECA-3771C62CE4D7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C8DDAA-71CE-44DB-92BB-0DA605EEE2A1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14EB37B-17CF-489E-8FC8-3BE3732145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B9225-5548-449E-B6B8-E8F4200D31FB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E24F8E1-F916-40D0-AE51-54DC915E89A8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378E0C-9A31-4EBB-9ABF-F5FD1785CA2E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886F68-9A62-492A-AFB2-0FF57D8B5707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3BD53D-B894-444F-8398-F4E1D0FC0AC0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1AB769-184C-47E0-AC3B-71A18B3A179E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744AB0-5513-49AE-AF11-B48A6C50AE81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4AE8A2-7480-4E1D-A75E-51FADCC6C4F2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81994A-F4F7-4C50-96B2-E5D797278189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905FDE-7ACA-4B0E-B25D-51D05F7BD169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B78D7F-8B02-4594-AEC1-ECE735E8124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6DF64-4B59-46F3-9DEF-80DC10F819C9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56226F-87EB-4AAB-BA6E-C92952FCFD3B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B97F79-F97B-48A3-BF6E-459708A9853A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579A91-D178-4F6E-9032-4922CC0F9E20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23E8E7C-B619-4185-8A60-783D5217C619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B2BDD7F-E8D3-49F2-B686-728AD0BDEA5E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31896F-307E-46B2-9AC3-6AAFF8A55AFF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045C1F5-92C3-41A7-BA60-8F721078ECA3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9ED91D-72DD-49C7-BFF4-F23F5D5D1CC5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F49A239-2D06-426C-839D-B3110412350B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A6496D5-48BD-4A58-A9B5-7E2BFD210AC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27AF1-AB12-45F3-8D6C-2C273BA95243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206B5BE-F464-41B3-88B5-E9F2D4B039D0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CBC414-35E2-4C73-B7A7-841845540150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3735451-A22D-4D78-BE66-0CFDBA620E86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027F9BF-07D2-479D-88F2-BC7E8D91B614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6E9C243-C745-443E-AE80-5AB8DC485719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0BD7275-9037-43D1-82A8-463125B73B25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1C9B87C-34D5-4CA7-82BA-9D1702C4E82B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59DA58-0978-4335-87D5-694AA68E48EB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6FF393-F4F3-4FD9-ABFA-D24386623723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87D1E87-7AAE-4C85-97A6-86B04D28DA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BD256-0B45-4DF3-922D-BCABF97DB6D3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972DB54-5E96-4C8F-85E8-B47CFE8578AE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6037BE4-8E52-4601-BA6D-95038DF65985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F8BF406-A0B0-44F8-B392-41E6FAC8822F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6E133D9-751B-435A-ADBE-523D2CA496F9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9686326-C4E6-40E8-8D85-C08996AEC853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F1D0F24-ED8D-456F-AB0D-2A145B168A98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46AB0A6-434E-45A9-B486-E796EF975153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082106-6C72-41D1-AEA1-A3C619E89BFC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6EADA1-B0E5-46F0-94F4-583B96D2C076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A8788E-BB96-4049-99C7-C5DC55057E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5A6C3-DEBB-44CE-83CE-6C9B6133011A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2BFF58-7A51-44D0-868E-355DB801C0E3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586FDE-CF76-402B-A169-76756EB1104C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4438AA-41BE-4B51-99FC-C8D20E7DC491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052E75-D441-47A7-9497-0AE39E97B4F4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46DE01-D99D-455E-9BB3-BCBC440C0F18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1BE63B-2F05-4FA3-AB86-84C533F571FE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DB0447-7ABA-4309-823A-84CE6D22D264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9577F7-00EA-405E-8C19-987C43A8FC25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DFE248-E12B-47FA-870C-B39FB972F928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F889269-7C22-4F1F-894C-54E40F6DA4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13786-BF11-45CE-AD70-E6F52F227329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D14C229-8A92-4EC3-9504-ADBE04F202BC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556F8EE-56A9-4BCD-B5D0-A23C3323FA03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2FBB01-7FB8-4AC6-9F24-D72FA55A4FBD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DCC2EB4-B87A-448B-8A1C-113F7DA0DE83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BA35FA2-7B0B-4A73-8A94-EDFD6686696E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E80FA35-4FB8-481C-A749-A0BE3E87EAA6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703C3C2-E340-4E59-B47D-374C5F274AAA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848478E-D5B2-4F2E-8F78-5B74D88F0E68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E6A0098-09B1-446D-8CB6-E7E7CCB27AB0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6F1241-D77F-4800-8594-37325EA18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B0F0-7254-44B1-9848-6807E4A9ECD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094B6-550A-4C27-9B3B-206637C74B2E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474249-0F5F-4FF7-858B-DEE90FD399A7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FA65A4-29D7-4122-B2F3-220F208CED5F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248D74B-97A0-41BE-8D3E-C488CA84FA0F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7044E63-E3D1-433C-ACC6-BA256DC651C8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885763-9470-4FF9-B17C-BB54E0B88AA6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7CA4C5F-7176-4024-91EF-A589009D39B8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64A1A27-FA39-4D73-9C60-4CEC3A621A4D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A0F0D59-FE89-4A94-B551-7804267102D9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2822C3-3A75-4BE8-8B2F-57D0F2B40CA4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A2D0E3C-9468-463F-B8C4-C5806B302BA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8DF3A-089B-4044-82D0-49DC6A187A80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BA8639-B5DE-4FF5-AB16-E2324A07508B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99795DD-2E5F-4685-8C22-B1F891E840B8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E75DB75-AD7A-445E-946D-E9BCB835C54C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2E7ABD-F2C9-4364-910B-A89CD6816F09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19B8CA-D997-464A-BC26-EBD75F384371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C33FD3-A689-45BF-824F-0EEEE577D6AD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2506DC-9369-4ED2-8F99-A4F340E780E3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1BEF5B-30FF-4497-A900-60156CD5DE70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C1EB08-3824-437E-AF1E-7597CC5FF83E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95121E-C095-4BCA-9C68-C0A547EA085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23AB8-598A-4D4D-84DC-5E261CBE0C1A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A7B3EF-EEEC-464A-9333-846BAAB114BE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28AFBA-410C-43F1-A8ED-B5D67ABA8F2A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2AE767-FECB-440B-8D77-AFDC54A724A0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C4E739-03EC-4582-803A-578938816479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7478C7-723C-4C1B-BBE8-8FBFEFE9F646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BDCE558-B257-4945-B90D-9818B674CCAB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C3B2F5C-E00F-4647-AF44-3F5CAA0C940E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94EB6F9-C5CE-44B8-862A-57FAAE4BBB91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1E4A3DD-4D88-4030-BEA4-FC5347F730CB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F32F651-8C81-437A-83C4-89D817F755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0152B-0C64-44DD-AA4F-F8C2AE63E78B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B06396C-2F84-4EAB-8AE8-E9B8383AAE25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6DA39E4-02B3-429A-8461-223C78DE9284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9162AA9-3A25-4B3E-AE5D-F467FDC137F9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A339977-1C05-464A-A2C4-846531464B60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BE9FE84-69EA-4602-8D1E-4D596374A27D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7E1B318-3793-4785-ADF0-A7C00A488F94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71B7E9B-F7B0-478F-ABDA-704691235B69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1BEE9F5-69FB-4E8C-A1F7-8AA93B231D78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1970074-658F-4EEB-91A5-14C037328DF9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DD8B9E3-8D48-472B-8566-BF021C657B1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8E018-92E8-442F-B611-4B32B84B753C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05E5E8B-64E0-46EF-9C48-F180E1EEECB6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28E94F0-65ED-4675-9134-2793EC5473F0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B1EFE6A-87A0-4DCB-BF68-651FB7C4CF4A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C3A5CBD-22BD-4F0C-AC27-7B36F6C56BB9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3FA5AD5-40E0-4656-8C19-1A5B21448A7C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0F3FCAD-8354-4F69-AEAC-7EA6CDFDB680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3F8D3ED-9A2C-4F5F-AB1D-A8730D1C367A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F56AF33-4920-430B-AD07-5E3E4F6DC0E5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2E2B34-A520-4D15-9280-520E08341746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34C126-3CFF-4B0E-89E6-769651033E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A2D6B-438C-43CF-A1CE-C345AF1D178C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5CDC11-5242-4B61-98CA-D6FEEC0DF5A3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02502D-DFF7-4D5E-A671-FD0EDE62FEB9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9CB71D-014D-44CB-B670-A0B32061D81B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8A6AB4-BBCA-48AA-8059-0928DB2A1AF1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4A1C81-1CA3-4394-8AED-4DEF2B48EF61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A2B6AF-5BC5-4F8A-AFAA-2D0160313697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A2EACC-7C45-446C-BCD9-44D51B7D4678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48E320-7CF3-404B-B97A-ABBA32695191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9102DE-00FF-470D-B3BA-4F15C130103A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B71939-F52C-4CAA-A383-1D8D129FD4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3499F-4A6D-4AFE-9087-F5AC10E131DB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F2390D-675D-4A28-B86C-E0D412F976F7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4802B21-A73E-4E46-BA58-66234975AC76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3BF766-9E5C-40F8-8A3E-B6D73237FA03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72007DD-6FD6-4C6E-A48E-A73324FE2850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0CE0070-8D14-4560-BB36-A8201B9A4CFD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D4AE5E9-B027-4F19-A1CC-1D6863809D7C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F5C84E4-CDAF-443B-AA45-AC98D4756254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49660B9-05F1-4C4A-9C6F-B965B5A550F4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B5EE4D9-8A2A-4750-B775-647D153B941C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0F9825-F974-4CA7-A5B2-63881959694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FF2F-49BA-49F5-9357-ED1B295C7A76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FDF092D-BCC8-4391-9C1F-5F40A4EDC8D3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FC7D8A8-7081-4770-8146-0D9F9A5E3950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7309A43-5034-442E-84FF-CA07D6A5B878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F0752AC-62E6-477B-9B14-B3A703F9A5A0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39E521E-3D85-40A2-9811-51D9B1642539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14FDB9-D052-4D6B-ACA9-06969681F67C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AA8C04B-C9E0-4F42-9200-BA5D4487BC77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B871970-DF4E-418B-84D0-456A7772C868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571C547-1F34-4AD9-A263-54625BFE4F27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D378919-00D0-4F61-AE95-52765B8B4B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9356-F8C0-4C53-A98A-F813AD705CD4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BFB1A74-7EEF-4229-A342-E92823E15B97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FBE91A0-4C55-4767-B002-227B49064645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BDBE520-081E-4357-849E-7AC12930CB76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937BCCC-71E8-45B0-96AE-99E824E5D5A3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636885F-4629-484E-B577-99F9D7CED519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5CEF11-AEB9-4868-A48A-B1519A70F66F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6274F5-52CB-4FD1-B6AF-92CDEF80F497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486F17-8F05-4508-A859-174FC5778497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B01AB2-A8D9-4933-95EC-B5758E456908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338A9C-38EF-4458-9FB1-4D8A1C2869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2AE7-B5E5-46CA-A65F-EBB6C9BB99DC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8D3B87-5365-43D0-9617-66887DFE4260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434C8E-A570-4A14-88EA-856DA6B7920A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80F2F9-0901-4EAA-A62C-75765BCCD626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409275-4173-4F65-AC1D-5BEB31E9F713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3EC6E9-2D64-418D-A453-F5CEA4E39C48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1C4F40-C135-4899-AF52-57DF9C5F932C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829511-5EC2-4E12-BCBB-2809AE7B4118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33072CF-19E1-4874-86FC-9FF1BACAA25A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A03D988-06BA-46F2-9E0A-7463AAE0504E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9179806-793D-445A-9F2F-7BA9A727D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B2F21A-97E0-4286-BD39-50D410BD24C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BF99FE-4339-4B11-B335-26A50137C28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 type="sldNum" idx="10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E0AF7C-8C84-4F2E-B2C3-C8DDC139822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 type="sldNum" idx="10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99D65B-72D7-4B31-B0D2-BA76555C53E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 type="sldNum" idx="10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C743EC-4483-45F7-B081-7462B869A09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 type="sldNum" idx="10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0D7310-95CA-49E4-9742-D5BEF11B9CC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 type="sldNum" idx="10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3C7650-05A8-4EC1-A8FA-AFD595C64AE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 type="sldNum" idx="10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1AA44A-B859-42E9-A230-899C487BF97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 type="sldNum" idx="10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15832C-EF35-4334-9DF8-65BD0009582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 type="sldNum" idx="10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346DBB-81E2-42E7-ACE4-C8AA8934582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 type="sldNum" idx="10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B7FC0B-287D-40FF-A9A7-24CAAC38CCB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 type="sldNum" idx="1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6AB3B6-076B-4A12-9DD5-BCCFAC38263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CC6400-6431-47E0-980A-E423544CD8E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 type="sldNum" idx="1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3516AA-B9F1-4FC5-9BA8-7C2BEF4AED7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 type="sldNum" idx="1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59F6A0-12EB-4548-8A89-588B5E66E8B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 type="sldNum" idx="11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945398-0CF3-494F-B8DF-581A344CD50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3"/>
          <p:cNvSpPr>
            <a:spLocks noGrp="1"/>
          </p:cNvSpPr>
          <p:nvPr>
            <p:ph type="sldNum" idx="11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A17111-A1A8-4859-8138-6012D0CF5B1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 type="sldNum" idx="1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3D7EAB-F6A6-4F8F-9A9F-24BF6E3061E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 type="sldNum" idx="1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2CD9E8-EDDA-40A1-BE90-47732890EA1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3"/>
          <p:cNvSpPr>
            <a:spLocks noGrp="1"/>
          </p:cNvSpPr>
          <p:nvPr>
            <p:ph type="sldNum" idx="1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DF06AC-E5CA-4A86-BBE4-59C32BE1F87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3"/>
          <p:cNvSpPr>
            <a:spLocks noGrp="1"/>
          </p:cNvSpPr>
          <p:nvPr>
            <p:ph type="sldNum" idx="1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4F0D7D-89B8-429D-8120-E8A60E264CC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3"/>
          <p:cNvSpPr>
            <a:spLocks noGrp="1"/>
          </p:cNvSpPr>
          <p:nvPr>
            <p:ph type="sldNum" idx="1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6AB065-1947-4BFC-AA98-55E968838A6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 type="sldNum" idx="1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BE6F63-62E6-4C23-BA20-CB70F083733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D74C43-5C50-4F2B-A6F4-4A38D122C73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3"/>
          <p:cNvSpPr>
            <a:spLocks noGrp="1"/>
          </p:cNvSpPr>
          <p:nvPr>
            <p:ph type="sldNum" idx="1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60A440-F102-4422-9D97-C19E2E27F40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3"/>
          <p:cNvSpPr>
            <a:spLocks noGrp="1"/>
          </p:cNvSpPr>
          <p:nvPr>
            <p:ph type="sldNum" idx="1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F9BCD8-0B55-4C1C-8C74-68A2FFC4545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3"/>
          <p:cNvSpPr>
            <a:spLocks noGrp="1"/>
          </p:cNvSpPr>
          <p:nvPr>
            <p:ph type="sldNum" idx="1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A2AFE7-237B-4C3F-A711-4648A64C758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3"/>
          <p:cNvSpPr>
            <a:spLocks noGrp="1"/>
          </p:cNvSpPr>
          <p:nvPr>
            <p:ph type="sldNum" idx="1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ADD777-1F4E-43A0-BD78-0707C61B436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3"/>
          <p:cNvSpPr>
            <a:spLocks noGrp="1"/>
          </p:cNvSpPr>
          <p:nvPr>
            <p:ph type="sldNum" idx="1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D22FE6-063D-47DF-81DC-45E5C95F39F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 type="sldNum" idx="1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CD0C04-EF8A-4B96-9FF8-52A27B4A2CC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3"/>
          <p:cNvSpPr>
            <a:spLocks noGrp="1"/>
          </p:cNvSpPr>
          <p:nvPr>
            <p:ph type="sldNum" idx="1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CED49B-5F0B-474F-B219-07CE2AC34B2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3"/>
          <p:cNvSpPr>
            <a:spLocks noGrp="1"/>
          </p:cNvSpPr>
          <p:nvPr>
            <p:ph type="sldNum" idx="1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87D827-35D8-4E74-A648-3542E103201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3"/>
          <p:cNvSpPr>
            <a:spLocks noGrp="1"/>
          </p:cNvSpPr>
          <p:nvPr>
            <p:ph type="sldNum" idx="1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9B931D-E927-4519-A0B5-6F8558A287F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3"/>
          <p:cNvSpPr>
            <a:spLocks noGrp="1"/>
          </p:cNvSpPr>
          <p:nvPr>
            <p:ph type="sldNum" idx="1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8CA4C4-F75D-4444-8F0F-BD7A91259FA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5BCD35-2152-4037-BD1C-E48FF1EEB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3"/>
          <p:cNvSpPr>
            <a:spLocks noGrp="1"/>
          </p:cNvSpPr>
          <p:nvPr>
            <p:ph type="sldNum" idx="1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B0292E-2C24-4E49-BE05-DCB2ADC22A8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 type="sldNum" idx="1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4229F7-9441-4D8E-B99C-10DECD3F79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3"/>
          <p:cNvSpPr>
            <a:spLocks noGrp="1"/>
          </p:cNvSpPr>
          <p:nvPr>
            <p:ph type="sldNum" idx="1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D9BBBF-2919-43E1-BB17-86983D6D585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3"/>
          <p:cNvSpPr>
            <a:spLocks noGrp="1"/>
          </p:cNvSpPr>
          <p:nvPr>
            <p:ph type="sldNum" idx="1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7825CA-0E6E-47F7-94C6-17134704DC2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3"/>
          <p:cNvSpPr>
            <a:spLocks noGrp="1"/>
          </p:cNvSpPr>
          <p:nvPr>
            <p:ph type="sldNum" idx="1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D5D059-97A8-42EE-8375-1168FD4CAA6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 type="sldNum" idx="1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524B54-4AEC-48AD-B7CF-9D330BF08C9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3"/>
          <p:cNvSpPr>
            <a:spLocks noGrp="1"/>
          </p:cNvSpPr>
          <p:nvPr>
            <p:ph type="sldNum" idx="1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EDA1EF-1CE4-424F-9F56-0F6B0F0533F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3"/>
          <p:cNvSpPr>
            <a:spLocks noGrp="1"/>
          </p:cNvSpPr>
          <p:nvPr>
            <p:ph type="sldNum" idx="1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B48835-6941-47ED-95A5-DEFD17E2F8C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3"/>
          <p:cNvSpPr>
            <a:spLocks noGrp="1"/>
          </p:cNvSpPr>
          <p:nvPr>
            <p:ph type="sldNum" idx="1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0FFB90-678C-44FB-942C-50E966F064B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 type="sldNum" idx="1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F19D4B-79F2-4A49-9020-662F29682DE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CECB35-A1C3-4B59-AC3B-CA723CA0E1A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3"/>
          <p:cNvSpPr>
            <a:spLocks noGrp="1"/>
          </p:cNvSpPr>
          <p:nvPr>
            <p:ph type="sldNum" idx="1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FF659B-5077-481D-A131-9BB823B4C86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3"/>
          <p:cNvSpPr>
            <a:spLocks noGrp="1"/>
          </p:cNvSpPr>
          <p:nvPr>
            <p:ph type="sldNum" idx="1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4AFF27-3FBC-40A1-B910-D7730C7073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3"/>
          <p:cNvSpPr>
            <a:spLocks noGrp="1"/>
          </p:cNvSpPr>
          <p:nvPr>
            <p:ph type="sldNum" idx="1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5701F4-5211-4174-B033-E79CA46968D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3"/>
          <p:cNvSpPr>
            <a:spLocks noGrp="1"/>
          </p:cNvSpPr>
          <p:nvPr>
            <p:ph type="sldNum" idx="1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9B92C5-83B6-462D-AA01-C04880C12DB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3"/>
          <p:cNvSpPr>
            <a:spLocks noGrp="1"/>
          </p:cNvSpPr>
          <p:nvPr>
            <p:ph type="sldNum" idx="1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A30789-114B-453E-B3A3-AFB3167B62E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3"/>
          <p:cNvSpPr>
            <a:spLocks noGrp="1"/>
          </p:cNvSpPr>
          <p:nvPr>
            <p:ph type="sldNum" idx="1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D686EA-1F23-4F94-8CA1-18C3EE1C11A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PlaceHolder 3"/>
          <p:cNvSpPr>
            <a:spLocks noGrp="1"/>
          </p:cNvSpPr>
          <p:nvPr>
            <p:ph type="dt" idx="14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PlaceHolder 4"/>
          <p:cNvSpPr>
            <a:spLocks noGrp="1"/>
          </p:cNvSpPr>
          <p:nvPr>
            <p:ph type="sldNum" idx="14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A50315-4ED8-421D-A322-9B81330E4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PlaceHolder 3"/>
          <p:cNvSpPr>
            <a:spLocks noGrp="1"/>
          </p:cNvSpPr>
          <p:nvPr>
            <p:ph type="dt" idx="14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PlaceHolder 4"/>
          <p:cNvSpPr>
            <a:spLocks noGrp="1"/>
          </p:cNvSpPr>
          <p:nvPr>
            <p:ph type="sldNum" idx="15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55E314-4D17-4122-A7DA-1BDED913A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PlaceHolder 3"/>
          <p:cNvSpPr>
            <a:spLocks noGrp="1"/>
          </p:cNvSpPr>
          <p:nvPr>
            <p:ph type="dt" idx="15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PlaceHolder 4"/>
          <p:cNvSpPr>
            <a:spLocks noGrp="1"/>
          </p:cNvSpPr>
          <p:nvPr>
            <p:ph type="sldNum" idx="15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702393-C78F-4801-8E91-57792F586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PlaceHolder 3"/>
          <p:cNvSpPr>
            <a:spLocks noGrp="1"/>
          </p:cNvSpPr>
          <p:nvPr>
            <p:ph type="dt" idx="15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PlaceHolder 4"/>
          <p:cNvSpPr>
            <a:spLocks noGrp="1"/>
          </p:cNvSpPr>
          <p:nvPr>
            <p:ph type="sldNum" idx="15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E9EB0E-667E-4416-AFC0-478E073A3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2E209C-ADFD-4AE4-A86B-45E8181D9B9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PlaceHolder 3"/>
          <p:cNvSpPr>
            <a:spLocks noGrp="1"/>
          </p:cNvSpPr>
          <p:nvPr>
            <p:ph type="dt" idx="15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PlaceHolder 4"/>
          <p:cNvSpPr>
            <a:spLocks noGrp="1"/>
          </p:cNvSpPr>
          <p:nvPr>
            <p:ph type="sldNum" idx="15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3E1B07-5F53-4BBD-859B-45B07CABE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PlaceHolder 3"/>
          <p:cNvSpPr>
            <a:spLocks noGrp="1"/>
          </p:cNvSpPr>
          <p:nvPr>
            <p:ph type="dt" idx="15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PlaceHolder 4"/>
          <p:cNvSpPr>
            <a:spLocks noGrp="1"/>
          </p:cNvSpPr>
          <p:nvPr>
            <p:ph type="sldNum" idx="15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F28CD7-A94C-43FA-A189-02ECEE706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 type="dt" idx="15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 type="sldNum" idx="16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D30354-723B-4F38-A861-2EFF1211F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6" name="PlaceHolder 3"/>
          <p:cNvSpPr>
            <a:spLocks noGrp="1"/>
          </p:cNvSpPr>
          <p:nvPr>
            <p:ph type="dt" idx="16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PlaceHolder 4"/>
          <p:cNvSpPr>
            <a:spLocks noGrp="1"/>
          </p:cNvSpPr>
          <p:nvPr>
            <p:ph type="sldNum" idx="16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C1D4FD-D2FA-4748-842B-B1E4741D7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PlaceHolder 3"/>
          <p:cNvSpPr>
            <a:spLocks noGrp="1"/>
          </p:cNvSpPr>
          <p:nvPr>
            <p:ph type="dt" idx="16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PlaceHolder 4"/>
          <p:cNvSpPr>
            <a:spLocks noGrp="1"/>
          </p:cNvSpPr>
          <p:nvPr>
            <p:ph type="sldNum" idx="16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E9A688-3AAB-4FEE-A35C-9C0B1C4C8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PlaceHolder 3"/>
          <p:cNvSpPr>
            <a:spLocks noGrp="1"/>
          </p:cNvSpPr>
          <p:nvPr>
            <p:ph type="dt" idx="16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PlaceHolder 4"/>
          <p:cNvSpPr>
            <a:spLocks noGrp="1"/>
          </p:cNvSpPr>
          <p:nvPr>
            <p:ph type="sldNum" idx="16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059C15-E83D-4DCD-9A4C-1D28AD2C8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PlaceHolder 3"/>
          <p:cNvSpPr>
            <a:spLocks noGrp="1"/>
          </p:cNvSpPr>
          <p:nvPr>
            <p:ph type="dt" idx="16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PlaceHolder 4"/>
          <p:cNvSpPr>
            <a:spLocks noGrp="1"/>
          </p:cNvSpPr>
          <p:nvPr>
            <p:ph type="sldNum" idx="16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4D1D21-A7A9-41D0-9194-BAABB4BAF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C6A1D6-92AC-4155-A09D-0A5D9E74838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E89B6F-91AF-4AEC-9BF7-97AD2565B50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2AEE4F-086D-4D0E-8023-9948A165739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8333ED-58CC-4660-89A1-CCDAF0BE6AD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75876A-8B04-4A4A-BCCF-5FE25EA6EC1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F2F10D-E0B9-4177-B448-281736E17C1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12418E-4A7D-498D-BF57-D7AB5E1C1D5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EEA3B4-C0AC-47BB-B0F3-D26F5E18BA0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B6B50A-2CA2-4528-9226-F4160260D4E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FEDB54-C1B4-45C8-A819-A9D1E122B0F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DA09CC-F12F-4FD6-9EF7-B62889FFF1A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884ADB-95E7-42FC-94E6-236F3A1683A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A0152E-329D-41F7-BD63-D5116C176BB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8AB6AD-4579-4FEA-9C7F-1A72D06975C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6542C1-56A3-42D3-B779-CACA4753E83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FCBA74-47A6-45CC-B38F-5404076E8DA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C45B04-C67E-429B-86AF-A7BD0951210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5E9174-EA2E-46B2-93BB-EE4239192BC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9E5172-2B48-45FF-9FE5-B8F72B8043D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53414F-15D5-4047-AC82-4DA32C142C9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1A5EAA-CA25-4187-92E8-9F3F8D11AB5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0CA5D2-454F-46A2-9338-DA01E0141E3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49365D-2C4B-4A2E-8007-A758E1FF3BF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372F56-5E75-43CA-9D81-18809584F1A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0DE9C3-D886-4C69-80A6-2884B46825D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90EBFF-F907-45FA-982C-63E6B6F8B19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81CD6E-D76C-4692-88D7-DCE6D9DA8F1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03308E-3C25-4904-BD55-E4F25E7C9F1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5DA5CC-2710-4492-84AE-342A96B708D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200E23-5070-41A7-8BC0-C07A8B2B3E0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D433F3-737C-4315-9F15-D40A1A328B1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3A4704-22D5-45B1-8CF9-6789FE88E69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166E32-AB9D-4E20-98BF-AD9E4B288C0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B25C61-35BF-46FE-86C5-964B97FB350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BCD7A2-C08D-40FC-9B12-A93F644C6CB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0A0347-1064-4C6E-AFEF-1AF3F15AA0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264A09-2710-49DF-8318-786047BFAC6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3690A6-2183-4A61-99E5-A0F156B4471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D164B1-DC5E-4B58-BC67-50D7506C861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A69386-6563-4C0B-AEE7-7D7ADCE0F69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4BA985-B847-443C-8F89-0427BA1EC2D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F539D6-D0FD-4B27-B9AD-382D2E581A4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sldNum" idx="5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215237-8A44-4CBC-BABE-F70F834B27D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1C609B-26AF-4B27-8127-DEEBCA18222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55589C-D375-4546-9037-FEE960D0EDC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sldNum" idx="5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0A3611-462D-4073-96E6-ED4026F59B8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3CEB94-6CC5-407E-9DAE-2BB9323FD20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C5CA2C-5F05-40EA-93F3-F378F656458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6AC755-9CEC-4C4B-A16C-EA9BC645C7D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 type="sldNum" idx="6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E4355C-37ED-49A5-ABE1-EBAAD43689E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1423DE-885B-4F0C-A57D-8B43CF30714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A8294D-6A81-4837-BF51-8A6FDDD2EA5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 type="sldNum" idx="6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2B1A01-9663-4185-B66B-5B45778E2B7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ED3984-1F8F-4CCC-BBFC-01DF538329E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365C4D-CD8A-442D-850F-CA3D51F0B06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sldNum" idx="6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976799-F6A3-4694-8D84-E0E00775280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4191CA-1039-463F-936E-A3D6C9D3E49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601791-60D5-48B7-A8C3-87077E3B2D6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 type="sldNum" idx="7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CCF844-48D3-462D-84BC-549BD1B9204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FAB8DA-FDAE-4DED-A97F-3C692A04ADB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976EAD-4CFD-4323-BA3E-5E31365D632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3BBB6F-FA61-4594-9D41-01E81F98AA2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 type="sldNum" idx="7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A38BFF-22B3-4E24-8A08-4FA811C6ECF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ABAEF9-829E-4713-BB70-55B699E2A43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 type="sldNum" idx="7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00CAB5-F711-4213-A69D-459923C6ADC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 type="sldNum" idx="7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E2C5FB-DD51-41E2-AC58-DE966A751AA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23D633-7DD0-4BE3-ADD3-9F2BDC18120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619183-A49F-4C0C-B476-33C8B185CE3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 type="sldNum" idx="7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D40E59-E40F-4885-8DC0-D0A65E46062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 type="sldNum" idx="8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B3EFA5-17B4-40C3-8512-237E8AF893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0C8257-EFDC-441C-BC30-7591B8BA85D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781E1B-2451-41D0-9CC1-11BE3BCA525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sldNum" idx="8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FAC240-5071-46D6-99B2-7DF9679610C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 type="sldNum" idx="8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AD9B93-3538-4D7E-B115-5C3778EE0CA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C680D3-AEB3-45D8-853C-AA9613E4661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 type="sldNum" idx="8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8ED186-2116-4934-A42C-9E347995D36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381CA6-E0A9-445C-BB90-CBBD72BCE16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 type="sldNum" idx="8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E1FC9A-EECC-40BC-87AB-0D7073D431E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 type="sldNum" idx="8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69301A-0E20-45DB-A413-ACA3CB5CC9D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96127A-8F6C-4EC1-BF4B-889B7F49AD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 type="sldNum" idx="9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D30C3D-1220-4E85-B3CB-B856132B3A7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D80301-E69C-497F-B7CE-3916E8B68F0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 type="sldNum" idx="9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ACF2FB-6D3B-4269-8CFA-4EA9EC74BBE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 type="sldNum" idx="9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973DB9-5D59-4125-A840-C0893857936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sldNum" idx="9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FDF595-7D13-485A-80C2-601E63A68ED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 type="sldNum" idx="9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141390-78EB-4CC6-A795-CBE13718D5A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 type="sldNum" idx="9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5E5592-D7E7-4594-A95D-9527AF4B9F2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6EB75E-0B36-4CDD-8719-4F8F5C6EF93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 type="sldNum" idx="9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E63F29-D7E5-4327-B659-D461D912FD2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 type="sldNum" idx="9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A92CB6-A593-47B1-BD93-D1191E567E2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 type="sldNum" idx="9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59644F-EA75-4E96-AE9D-453025263BC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3"/>
          <p:cNvSpPr>
            <a:spLocks noGrp="1"/>
          </p:cNvSpPr>
          <p:nvPr>
            <p:ph type="sldNum" idx="10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CAB53C-C333-4EDF-B0CF-347907D6CF7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5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5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4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5" name="Rectangle 3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6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6397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6398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6399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6400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8. Η Υποδομή της Σχολικής Τάξης</a:t>
            </a:r>
            <a:br>
              <a:rPr sz="3600"/>
            </a:b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[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Δημοτικό Σχολείο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 ]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7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7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7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Η  Υποδομή  της Σχολικής Τάξη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8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8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8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9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9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9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9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0" name="Rectangle 1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502" name="Picture 3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503" name="Picture 4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04" name="Rectangle 5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5" name="Rectangle 6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 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0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0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0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0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1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1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2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3. Ο Σχολικός Χώρος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3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Ποιότητα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4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5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5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6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4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6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6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35:40Z</dcterms:modified>
  <cp:revision>1</cp:revision>
  <dc:subject/>
  <dc:title/>
</cp:coreProperties>
</file>